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12.png" ContentType="image/png"/>
  <Override PartName="/ppt/media/image20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18.png" ContentType="image/png"/>
  <Override PartName="/ppt/media/image5.wmf" ContentType="image/x-wmf"/>
  <Override PartName="/ppt/media/image10.png" ContentType="image/png"/>
  <Override PartName="/ppt/media/image4.jpeg" ContentType="image/jpeg"/>
  <Override PartName="/ppt/media/image25.jpeg" ContentType="image/jpeg"/>
  <Override PartName="/ppt/media/image27.png" ContentType="image/png"/>
  <Override PartName="/ppt/media/image26.png" ContentType="image/png"/>
  <Override PartName="/ppt/media/image14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B7DA-EB52-4B8E-9DE0-3B0C1D141BA1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1240-8A2E-473C-81C5-5735941722E5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-2341440" y="1276200"/>
            <a:ext cx="11309400" cy="848232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799920" y="609480"/>
            <a:ext cx="55400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64E9-6269-44DD-B723-0AC2692F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392-FDBD-4F4E-9190-E7FD1884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546-1EF3-482A-A18C-C775F46D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D82-F7A7-46F3-B3EB-D55C27E1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19A-F825-4F23-9E48-C7BF7038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6A2-026E-4080-8453-614287BE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E14-E34B-4D76-89FB-08736771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F2F6-4AD1-4806-ACC4-17328576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918-77C1-4C23-B233-DCD2AF8E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5FCC-39D8-4702-9AAF-E335C6BA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3B01-4C13-4B61-A885-FC6E7D4D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D9EC-7444-473A-BF70-69DFAA6F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E8DE-3E4C-4FAF-A74F-91836C67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5F4F-5915-4C0D-AE74-DA0188EE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BDA4-B816-44E0-8CA5-B2654C7A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A764-E2F4-4936-81C6-D57A7EB1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807D-EBA4-444B-B1CE-ECF9E966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8AA3-0635-4E2A-9D25-930DE2C1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672E-DEB1-4A47-B597-5C0D4462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CA7-9A4E-481F-8CBC-A825A824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FCAC-61C1-4DFF-868C-60C7296B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B486-F2C7-4A73-818B-062C9F73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21D-8702-44DA-893B-28A3519C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60D-6E7B-4923-BCD3-9AB606B8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86320" y="645156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Bocionek  </a:t>
            </a:r>
            <a:r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r>
              <a:rPr b="0" lang="zh-TW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2006/0</a:t>
            </a:r>
            <a:r>
              <a:rPr b="0" lang="de-DE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3</a:t>
            </a:r>
            <a:r>
              <a:rPr b="0" lang="zh-TW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/</a:t>
            </a:r>
            <a:r>
              <a:rPr b="0" lang="de-DE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31</a:t>
            </a:r>
            <a:r>
              <a:rPr b="0" lang="zh-TW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 # </a:t>
            </a:r>
            <a:fld id="{E4C02EC8-87CD-4D35-8177-490A40DE5F8C}" type="slidenum">
              <a:rPr b="0" lang="zh-TW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31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2D9F72D9-58DD-487E-8C5B-2596E8A02C64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84924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50760"/>
            <a:ext cx="82310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157400"/>
            <a:ext cx="822960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6622920"/>
            <a:ext cx="853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1e0a63"/>
                </a:solidFill>
                <a:latin typeface="Arial"/>
              </a:rPr>
              <a:t>BenQ 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Confidential </a:t>
            </a:r>
            <a:r>
              <a:rPr b="0" lang="zh-TW" sz="9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2006, BenQ Mobile – Product House Europe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	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	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	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 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	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	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	</a:t>
            </a:r>
            <a:r>
              <a:rPr b="0" lang="zh-TW" sz="900" spc="-1" strike="noStrike">
                <a:solidFill>
                  <a:srgbClr val="1e0a63"/>
                </a:solidFill>
                <a:latin typeface="Arial"/>
                <a:ea typeface="Arial"/>
              </a:rPr>
              <a:t> </a:t>
            </a:r>
            <a:fld id="{C49CA6DB-C575-4C07-803E-992939D765FF}" type="slidenum">
              <a:rPr b="0" lang="en-US" sz="900" spc="-1" strike="noStrike">
                <a:solidFill>
                  <a:srgbClr val="1e0a63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234200" y="71280"/>
            <a:ext cx="1695600" cy="14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DRAFT</a:t>
            </a:r>
            <a:endParaRPr b="0" lang="en-US" sz="2400" spc="1" strike="noStrike">
              <a:ln w="25560">
                <a:solidFill>
                  <a:srgbClr val="ffffff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FBB8-869B-4EB6-B51A-F4672DEFAFC3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@2006, BenQ Mobile – Product House Europe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fld id="{AC72794F-D0A3-468C-9532-69463AE5F334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24.jpeg"/><Relationship Id="rId18" Type="http://schemas.openxmlformats.org/officeDocument/2006/relationships/image" Target="../media/image25.jpeg"/><Relationship Id="rId19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09680" y="4981680"/>
            <a:ext cx="4572000" cy="13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. Bocion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PHE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文鼎中黑"/>
              </a:rPr>
              <a:t>March 31th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680" y="2451240"/>
            <a:ext cx="73357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Quo Vadis R&amp;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文鼎中黑"/>
              </a:rPr>
              <a:t>The Way to PLM Excel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文鼎中黑"/>
              </a:rPr>
              <a:t>and Enjoyment in R&amp;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文鼎中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文鼎中黑"/>
              </a:rPr>
              <a:t>2nd All Hands Meeting of PHE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455-A93E-40DB-91F1-E8B21899B25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652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Product line up shows strong leadership posit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68440" y="4523040"/>
            <a:ext cx="7731000" cy="1646280"/>
            <a:chOff x="568440" y="4523040"/>
            <a:chExt cx="7731000" cy="1646280"/>
          </a:xfrm>
        </p:grpSpPr>
        <p:sp>
          <p:nvSpPr>
            <p:cNvPr id="330" name=""/>
            <p:cNvSpPr/>
            <p:nvPr/>
          </p:nvSpPr>
          <p:spPr>
            <a:xfrm>
              <a:off x="2506680" y="4523040"/>
              <a:ext cx="579276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0 of 12 cameras of up to 3.2 megapixel (multimedia camer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1 of 12 with multimedia function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amera, 16x digital and autofoc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Google sear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RM "PlaysforSure" (Microso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8440" y="481968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3880" y="4797000"/>
              <a:ext cx="15876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ultimedia and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68440" y="2748600"/>
            <a:ext cx="7940520" cy="1646280"/>
            <a:chOff x="568440" y="2748600"/>
            <a:chExt cx="7940520" cy="1646280"/>
          </a:xfrm>
        </p:grpSpPr>
        <p:sp>
          <p:nvSpPr>
            <p:cNvPr id="334" name=""/>
            <p:cNvSpPr/>
            <p:nvPr/>
          </p:nvSpPr>
          <p:spPr>
            <a:xfrm>
              <a:off x="568440" y="2919240"/>
              <a:ext cx="1735200" cy="102744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440"/>
                <a:gd name="textAreaBottom" fmla="*/ 1027800 h 102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2440" y="2895480"/>
              <a:ext cx="14666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sign and user exper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06680" y="2748600"/>
              <a:ext cx="60022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 M design: materials, mechanics, miniatu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limline in bar, slider, clamshell form 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/3 of products have at least one design aw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ast key, dedicated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implicity in menu and us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68440" y="1141200"/>
            <a:ext cx="6275160" cy="1371960"/>
            <a:chOff x="568440" y="1141200"/>
            <a:chExt cx="6275160" cy="1371960"/>
          </a:xfrm>
        </p:grpSpPr>
        <p:sp>
          <p:nvSpPr>
            <p:cNvPr id="338" name=""/>
            <p:cNvSpPr/>
            <p:nvPr/>
          </p:nvSpPr>
          <p:spPr>
            <a:xfrm>
              <a:off x="568440" y="135576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3240" y="1456920"/>
              <a:ext cx="1403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06680" y="1141200"/>
              <a:ext cx="433692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G HSDPA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display technology: OLED, I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multi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Services Over the 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Arial Unicode MS"/>
              </a:rPr>
              <a:t>Status PLM-Excellence Projec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C71-B785-4ADB-A9D9-4E749AE0390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3360" y="5708520"/>
            <a:ext cx="8810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6600" y="2011320"/>
            <a:ext cx="8464680" cy="3824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40080" y="1758960"/>
            <a:ext cx="5470560" cy="407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95640" y="1758960"/>
            <a:ext cx="0" cy="407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070320" y="2030400"/>
            <a:ext cx="14040" cy="377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04000" y="1758960"/>
            <a:ext cx="0" cy="407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6600" y="1989000"/>
            <a:ext cx="799920" cy="1368720"/>
          </a:xfrm>
          <a:custGeom>
            <a:avLst/>
            <a:gdLst>
              <a:gd name="textAreaLeft" fmla="*/ 0 w 799920"/>
              <a:gd name="textAreaRight" fmla="*/ 800280 w 799920"/>
              <a:gd name="textAreaTop" fmla="*/ 0 h 1368720"/>
              <a:gd name="textAreaBottom" fmla="*/ 136908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-93240" y="2601720"/>
            <a:ext cx="1274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24000" y="3357720"/>
            <a:ext cx="799920" cy="1368000"/>
            <a:chOff x="324000" y="3357720"/>
            <a:chExt cx="799920" cy="1368000"/>
          </a:xfrm>
        </p:grpSpPr>
        <p:sp>
          <p:nvSpPr>
            <p:cNvPr id="351" name=""/>
            <p:cNvSpPr/>
            <p:nvPr/>
          </p:nvSpPr>
          <p:spPr>
            <a:xfrm>
              <a:off x="324000" y="3417120"/>
              <a:ext cx="799920" cy="124884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1248840"/>
                <a:gd name="textAreaBottom" fmla="*/ 1249200 h 12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6200000">
              <a:off x="-152640" y="3945600"/>
              <a:ext cx="1368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Sp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168560" y="47847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19520" y="174312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Arial"/>
              </a:rPr>
              <a:t>CY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9560" y="1743120"/>
            <a:ext cx="1432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Arial"/>
              </a:rPr>
              <a:t>CY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236000" y="1743120"/>
            <a:ext cx="130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Arial"/>
              </a:rPr>
              <a:t>CY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76640" y="588168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15680" y="5924520"/>
            <a:ext cx="86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Arial"/>
              </a:rPr>
              <a:t>Start of activit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12320" y="5935680"/>
            <a:ext cx="158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Arial"/>
              </a:rPr>
              <a:t>Concept definition miles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79760" y="592776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92800" y="5910120"/>
            <a:ext cx="61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Arial"/>
              </a:rPr>
              <a:t>Full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40640" y="58802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12440" y="593568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Arial"/>
              </a:rPr>
              <a:t>First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763040" y="590076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36000" y="684360"/>
            <a:ext cx="1908000" cy="3333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96360" y="115920"/>
            <a:ext cx="13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Arial"/>
              </a:rPr>
              <a:t>Expand terr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32720" y="1041480"/>
            <a:ext cx="2062080" cy="712800"/>
          </a:xfrm>
          <a:custGeom>
            <a:avLst/>
            <a:gdLst/>
            <a:ahLst/>
            <a:rect l="l" t="t" r="r" b="b"/>
            <a:pathLst>
              <a:path w="1472" h="536">
                <a:moveTo>
                  <a:pt x="1472" y="0"/>
                </a:moveTo>
                <a:lnTo>
                  <a:pt x="1472" y="536"/>
                </a:lnTo>
                <a:lnTo>
                  <a:pt x="0" y="536"/>
                </a:lnTo>
                <a:lnTo>
                  <a:pt x="1472" y="0"/>
                </a:lnTo>
                <a:close/>
              </a:path>
            </a:pathLst>
          </a:custGeom>
          <a:gradFill rotWithShape="0">
            <a:gsLst>
              <a:gs pos="0">
                <a:srgbClr val="999999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1268280"/>
            <a:ext cx="16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Arial"/>
              </a:rPr>
              <a:t>Sustainable</a:t>
            </a:r>
            <a:br>
              <a:rPr sz="1400"/>
            </a:br>
            <a:r>
              <a:rPr b="1" i="1" lang="en-GB" sz="1400" spc="-1" strike="noStrike">
                <a:solidFill>
                  <a:srgbClr val="3a0e66"/>
                </a:solidFill>
                <a:latin typeface="Arial"/>
              </a:rPr>
              <a:t>turna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300720" y="6237360"/>
            <a:ext cx="1297080" cy="47628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limina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 be deta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09360" y="5904000"/>
            <a:ext cx="16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5320"/>
                <a:tab algn="l" pos="1679400"/>
                <a:tab algn="l" pos="269568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25720" y="5935680"/>
            <a:ext cx="103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Arial"/>
              </a:rPr>
              <a:t>Milestone reac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48000" y="1009800"/>
            <a:ext cx="4248360" cy="7491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19680" y="1319040"/>
            <a:ext cx="76212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Arial"/>
              </a:rPr>
              <a:t>Get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63520" y="2133720"/>
            <a:ext cx="225612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176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76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Arial"/>
              </a:rPr>
              <a:t>Sales Margin+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76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Arial"/>
              </a:rPr>
              <a:t>WE Sales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76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Arial"/>
              </a:rPr>
              <a:t>Improve Asia, EE and LAM Market Intim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66960" y="237960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72360" y="235584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16000" y="34704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24000" y="4703760"/>
            <a:ext cx="799920" cy="1172880"/>
            <a:chOff x="324000" y="4703760"/>
            <a:chExt cx="799920" cy="1172880"/>
          </a:xfrm>
        </p:grpSpPr>
        <p:sp>
          <p:nvSpPr>
            <p:cNvPr id="379" name=""/>
            <p:cNvSpPr/>
            <p:nvPr/>
          </p:nvSpPr>
          <p:spPr>
            <a:xfrm>
              <a:off x="324000" y="4754880"/>
              <a:ext cx="799920" cy="107064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1070640"/>
                <a:gd name="textAreaBottom" fmla="*/ 1071000 h 107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0000">
              <a:off x="-55080" y="5194080"/>
              <a:ext cx="1172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64880" y="784080"/>
            <a:ext cx="375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Arial"/>
                <a:ea typeface="文鼎中黑"/>
              </a:rPr>
              <a:t>BenQ mobile turnaround Master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804000" y="1989000"/>
            <a:ext cx="1440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349600" y="2030400"/>
            <a:ext cx="1404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35280" y="393552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76720" y="507348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92360" y="53611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63520" y="3567240"/>
            <a:ext cx="2256120" cy="12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PLM Excel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76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Arial"/>
              </a:rPr>
              <a:t>CTM 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76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Arial"/>
              </a:rPr>
              <a:t>Mobilize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76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Arial"/>
              </a:rPr>
              <a:t>Bridge alignment</a:t>
            </a:r>
            <a:br>
              <a:rPr sz="1400"/>
            </a:br>
            <a:r>
              <a:rPr b="1" lang="en-GB" sz="1400" spc="-1" strike="noStrike">
                <a:solidFill>
                  <a:srgbClr val="3a0e66"/>
                </a:solidFill>
                <a:latin typeface="Arial"/>
              </a:rPr>
              <a:t>devi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63520" y="5084640"/>
            <a:ext cx="22561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176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Arial"/>
              </a:rPr>
              <a:t>Improve cost sensi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76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Arial"/>
              </a:rPr>
              <a:t>Improve product cost 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47440" y="1062000"/>
            <a:ext cx="55800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Arial"/>
              </a:rPr>
              <a:t>H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08360" y="262404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59720" y="265896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24360" y="2465280"/>
            <a:ext cx="251928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708360" y="287028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67640" y="289080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51280" y="239544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672240" y="368784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48000" y="364500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59640" y="448956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24360" y="452916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1960" y="371628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348000" y="4003200"/>
            <a:ext cx="4464000" cy="18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628880" y="1989000"/>
            <a:ext cx="1404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87760" y="3860640"/>
            <a:ext cx="228600" cy="21780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76720" y="386064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08400" y="422100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72240" y="424332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17960" y="429588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64000" y="3789360"/>
            <a:ext cx="32400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67640" y="388296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19640" y="4365720"/>
            <a:ext cx="33130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00720" y="4221000"/>
            <a:ext cx="228600" cy="21780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7162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51280" y="4581360"/>
            <a:ext cx="29527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81440" y="449568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00720" y="44816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64000" y="51577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672240" y="506736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87760" y="50720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92360" y="508464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08360" y="544500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72240" y="5322960"/>
            <a:ext cx="228600" cy="193680"/>
          </a:xfrm>
          <a:prstGeom prst="star5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80000" y="537516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00720" y="53006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24360" y="2782800"/>
            <a:ext cx="38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243400" y="26370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67360" y="267012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24360" y="298440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00720" y="2868480"/>
            <a:ext cx="228600" cy="21780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33960" y="294480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19200" y="1684440"/>
            <a:ext cx="13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Arial"/>
                <a:ea typeface="文鼎中黑"/>
              </a:rPr>
              <a:t>Initi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5080" y="1684440"/>
            <a:ext cx="10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660066"/>
                </a:solidFill>
                <a:latin typeface="Arial"/>
                <a:ea typeface="文鼎中黑"/>
              </a:rPr>
              <a:t>L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00720" y="233352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97280" y="272412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04240" y="272412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152280"/>
            <a:ext cx="83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Starting Point: The BenQ Turnaroun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77A-3107-42C3-8F78-8E5709528B0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79280" y="4508640"/>
            <a:ext cx="8713800" cy="158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440" y="115560"/>
            <a:ext cx="876312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gram „PLM Excellence“: </a:t>
            </a:r>
            <a:r>
              <a:rPr b="1" lang="en-US" sz="2400" spc="-1" strike="noStrike">
                <a:solidFill>
                  <a:srgbClr val="3a0e66"/>
                </a:solidFill>
                <a:latin typeface="Arial Unicode MS"/>
              </a:rPr>
              <a:t>Driver Tre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8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9280" y="2492280"/>
            <a:ext cx="87012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9280" y="1341360"/>
            <a:ext cx="871380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5986440" y="4597560"/>
            <a:ext cx="1227240" cy="760320"/>
            <a:chOff x="5986440" y="4597560"/>
            <a:chExt cx="1227240" cy="760320"/>
          </a:xfrm>
        </p:grpSpPr>
        <p:sp>
          <p:nvSpPr>
            <p:cNvPr id="443" name=""/>
            <p:cNvSpPr/>
            <p:nvPr/>
          </p:nvSpPr>
          <p:spPr>
            <a:xfrm>
              <a:off x="5999040" y="4597560"/>
              <a:ext cx="1169280" cy="760320"/>
            </a:xfrm>
            <a:prstGeom prst="rect">
              <a:avLst/>
            </a:prstGeom>
            <a:solidFill>
              <a:srgbClr val="f0ebff"/>
            </a:solidFill>
            <a:ln w="9360">
              <a:solidFill>
                <a:srgbClr val="450a7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8920" indent="-88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6440" y="4718880"/>
              <a:ext cx="1227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latform &amp; Portfol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108160" y="4597560"/>
            <a:ext cx="1154160" cy="760320"/>
            <a:chOff x="2108160" y="4597560"/>
            <a:chExt cx="1154160" cy="760320"/>
          </a:xfrm>
        </p:grpSpPr>
        <p:sp>
          <p:nvSpPr>
            <p:cNvPr id="446" name=""/>
            <p:cNvSpPr/>
            <p:nvPr/>
          </p:nvSpPr>
          <p:spPr>
            <a:xfrm>
              <a:off x="2108160" y="4597560"/>
              <a:ext cx="1154160" cy="760320"/>
            </a:xfrm>
            <a:prstGeom prst="rect">
              <a:avLst/>
            </a:prstGeom>
            <a:solidFill>
              <a:srgbClr val="f0ebff"/>
            </a:solidFill>
            <a:ln w="9360">
              <a:solidFill>
                <a:srgbClr val="450a7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8920" indent="-88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52800" y="4735440"/>
              <a:ext cx="1059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odel – V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25600" y="4597560"/>
            <a:ext cx="1458720" cy="899640"/>
            <a:chOff x="525600" y="4597560"/>
            <a:chExt cx="1458720" cy="899640"/>
          </a:xfrm>
        </p:grpSpPr>
        <p:sp>
          <p:nvSpPr>
            <p:cNvPr id="449" name=""/>
            <p:cNvSpPr/>
            <p:nvPr/>
          </p:nvSpPr>
          <p:spPr>
            <a:xfrm>
              <a:off x="544680" y="4597560"/>
              <a:ext cx="1439640" cy="759960"/>
            </a:xfrm>
            <a:prstGeom prst="rect">
              <a:avLst/>
            </a:prstGeom>
            <a:solidFill>
              <a:srgbClr val="f0ebff"/>
            </a:solidFill>
            <a:ln w="9360">
              <a:solidFill>
                <a:srgbClr val="450a7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8920" indent="-88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25600" y="4646160"/>
              <a:ext cx="144000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IC –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st in class tools &amp; auto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359160" y="4597560"/>
            <a:ext cx="1301400" cy="885600"/>
            <a:chOff x="3359160" y="4597560"/>
            <a:chExt cx="1301400" cy="885600"/>
          </a:xfrm>
        </p:grpSpPr>
        <p:sp>
          <p:nvSpPr>
            <p:cNvPr id="452" name=""/>
            <p:cNvSpPr/>
            <p:nvPr/>
          </p:nvSpPr>
          <p:spPr>
            <a:xfrm>
              <a:off x="3371760" y="4597560"/>
              <a:ext cx="1288800" cy="760320"/>
            </a:xfrm>
            <a:prstGeom prst="rect">
              <a:avLst/>
            </a:prstGeom>
            <a:solidFill>
              <a:srgbClr val="f0ebff"/>
            </a:solidFill>
            <a:ln w="9360">
              <a:solidFill>
                <a:srgbClr val="450a7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8920" indent="-88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59160" y="4749840"/>
              <a:ext cx="1289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rototy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Agile w/ Scr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7250040" y="4603680"/>
            <a:ext cx="1440000" cy="760320"/>
          </a:xfrm>
          <a:prstGeom prst="rect">
            <a:avLst/>
          </a:prstGeom>
          <a:solidFill>
            <a:srgbClr val="f0ebff"/>
          </a:solid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380360" y="458136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igh-performance cul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11440" y="1528920"/>
            <a:ext cx="1440000" cy="431640"/>
          </a:xfrm>
          <a:prstGeom prst="rect">
            <a:avLst/>
          </a:prstGeom>
          <a:solidFill>
            <a:srgbClr val="f0ebff"/>
          </a:solid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68320" y="1527120"/>
            <a:ext cx="1440000" cy="432000"/>
          </a:xfrm>
          <a:prstGeom prst="rect">
            <a:avLst/>
          </a:prstGeom>
          <a:solidFill>
            <a:srgbClr val="f0ebff"/>
          </a:solidFill>
          <a:ln cap="rnd" w="93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09920" y="1528920"/>
            <a:ext cx="1440000" cy="431640"/>
          </a:xfrm>
          <a:prstGeom prst="rect">
            <a:avLst/>
          </a:prstGeom>
          <a:solidFill>
            <a:srgbClr val="f0ebff"/>
          </a:solidFill>
          <a:ln cap="rnd" w="93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33800" y="836640"/>
            <a:ext cx="2232000" cy="431640"/>
          </a:xfrm>
          <a:prstGeom prst="rect">
            <a:avLst/>
          </a:prstGeom>
          <a:solidFill>
            <a:srgbClr val="f0ebff"/>
          </a:solid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21000" y="83664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PLM Excell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53920" y="1484280"/>
            <a:ext cx="1486080" cy="488880"/>
          </a:xfrm>
          <a:prstGeom prst="rect">
            <a:avLst/>
          </a:prstGeom>
          <a:solidFill>
            <a:srgbClr val="f0ebff"/>
          </a:solid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costs lower th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the compet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97040" y="1486080"/>
            <a:ext cx="1470240" cy="488880"/>
          </a:xfrm>
          <a:prstGeom prst="rect">
            <a:avLst/>
          </a:prstGeom>
          <a:solidFill>
            <a:srgbClr val="f0ebff"/>
          </a:solid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faster than th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compet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309920" y="1484280"/>
            <a:ext cx="1513080" cy="488880"/>
          </a:xfrm>
          <a:prstGeom prst="rect">
            <a:avLst/>
          </a:prstGeom>
          <a:solidFill>
            <a:srgbClr val="f0ebff"/>
          </a:solid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better than th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compet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12000" y="1484280"/>
            <a:ext cx="1439640" cy="488880"/>
          </a:xfrm>
          <a:prstGeom prst="rect">
            <a:avLst/>
          </a:prstGeom>
          <a:solidFill>
            <a:srgbClr val="f0ebff"/>
          </a:solid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cooler than th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compet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4360" y="2565360"/>
            <a:ext cx="1584000" cy="863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26920" y="28386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TC successf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0920" y="3573360"/>
            <a:ext cx="1333440" cy="790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19360" y="3386160"/>
            <a:ext cx="1334880" cy="79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573360"/>
            <a:ext cx="1334880" cy="7923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89360" y="3500280"/>
            <a:ext cx="1335240" cy="7923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29360" y="3386160"/>
            <a:ext cx="1335240" cy="7920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27360" y="2565360"/>
            <a:ext cx="1584360" cy="8636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859280" y="2708280"/>
            <a:ext cx="1297080" cy="7207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43280" y="283860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lestones 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48120" y="2824200"/>
            <a:ext cx="131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CC redu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23280" y="2492280"/>
            <a:ext cx="136836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2e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524720" y="2540160"/>
            <a:ext cx="1368360" cy="18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rust &amp; re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9360" y="3701880"/>
            <a:ext cx="129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ptim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ocation/skill m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49600" y="3573360"/>
            <a:ext cx="129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igher platform re-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18040" y="3716280"/>
            <a:ext cx="12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ess requirement vola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19600" y="3548160"/>
            <a:ext cx="129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ess defects/r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113520" y="3473280"/>
            <a:ext cx="136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maturity/discip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042920" y="1982880"/>
            <a:ext cx="936720" cy="642600"/>
            <a:chOff x="1042920" y="1982880"/>
            <a:chExt cx="936720" cy="642600"/>
          </a:xfrm>
        </p:grpSpPr>
        <p:sp>
          <p:nvSpPr>
            <p:cNvPr id="484" name=""/>
            <p:cNvSpPr/>
            <p:nvPr/>
          </p:nvSpPr>
          <p:spPr>
            <a:xfrm>
              <a:off x="1836720" y="2060640"/>
              <a:ext cx="142920" cy="216000"/>
            </a:xfrm>
            <a:prstGeom prst="downArrow">
              <a:avLst>
                <a:gd name="adj1" fmla="val 50000"/>
                <a:gd name="adj2" fmla="val 37783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42920" y="1982880"/>
              <a:ext cx="71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844720" y="1989000"/>
            <a:ext cx="935280" cy="642600"/>
            <a:chOff x="2844720" y="1989000"/>
            <a:chExt cx="935280" cy="642600"/>
          </a:xfrm>
        </p:grpSpPr>
        <p:sp>
          <p:nvSpPr>
            <p:cNvPr id="487" name=""/>
            <p:cNvSpPr/>
            <p:nvPr/>
          </p:nvSpPr>
          <p:spPr>
            <a:xfrm>
              <a:off x="3637080" y="2060640"/>
              <a:ext cx="142920" cy="216000"/>
            </a:xfrm>
            <a:prstGeom prst="upArrow">
              <a:avLst>
                <a:gd name="adj1" fmla="val 50000"/>
                <a:gd name="adj2" fmla="val 37783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44720" y="1989000"/>
              <a:ext cx="74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pe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5364000" y="2060640"/>
            <a:ext cx="142920" cy="216000"/>
          </a:xfrm>
          <a:prstGeom prst="upArrow">
            <a:avLst>
              <a:gd name="adj1" fmla="val 50000"/>
              <a:gd name="adj2" fmla="val 37783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427640" y="1989000"/>
            <a:ext cx="9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26040" y="198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96800" y="2276280"/>
            <a:ext cx="4032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1187280" y="2349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1402920" y="342900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2700360" y="321300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3850920" y="335736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500720" y="3860280"/>
            <a:ext cx="215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1618920" y="234936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1979640" y="2276280"/>
            <a:ext cx="302400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3203280" y="234936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4211280" y="3213000"/>
            <a:ext cx="647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4211640" y="3156120"/>
            <a:ext cx="194472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076720" y="3257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6129360" y="3128760"/>
            <a:ext cx="603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0800000">
            <a:off x="122400" y="1407600"/>
            <a:ext cx="8506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0800000">
            <a:off x="92160" y="2565360"/>
            <a:ext cx="51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KPI‘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0800000">
            <a:off x="92160" y="4652640"/>
            <a:ext cx="8506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Activ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492040" y="2944800"/>
            <a:ext cx="51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SPI‘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140360" y="2349000"/>
            <a:ext cx="57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5148000" y="2421000"/>
            <a:ext cx="260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1562040" y="393336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987640" y="39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64440" y="2060640"/>
            <a:ext cx="142920" cy="216000"/>
          </a:xfrm>
          <a:prstGeom prst="upArrow">
            <a:avLst>
              <a:gd name="adj1" fmla="val 50000"/>
              <a:gd name="adj2" fmla="val 37783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971640" y="30686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[DTC</a:t>
            </a:r>
            <a:r>
              <a:rPr b="1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↑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32000" y="30830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[OTD</a:t>
            </a:r>
            <a:r>
              <a:rPr b="1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↑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067360" y="30812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[FPY</a:t>
            </a:r>
            <a:r>
              <a:rPr b="1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↑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372360" y="38908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[CMMI</a:t>
            </a:r>
            <a:r>
              <a:rPr b="1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↑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32360" y="39337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[FPY</a:t>
            </a:r>
            <a:r>
              <a:rPr b="1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↑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376440" y="40766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[FPY</a:t>
            </a:r>
            <a:r>
              <a:rPr b="1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↑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50920" y="6353280"/>
            <a:ext cx="30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SPI = Soft Performance Indicators</a:t>
            </a: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DTC = Design to C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92360" y="6353280"/>
            <a:ext cx="208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FPY = First pass y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NCC = Non Conformance Co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12000" y="6353280"/>
            <a:ext cx="1944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OTD = On Time Deli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PLM = Product Lifecycle Mgm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41360" y="5445000"/>
            <a:ext cx="8592840" cy="576360"/>
            <a:chOff x="441360" y="5445000"/>
            <a:chExt cx="8592840" cy="576360"/>
          </a:xfrm>
        </p:grpSpPr>
        <p:sp>
          <p:nvSpPr>
            <p:cNvPr id="524" name=""/>
            <p:cNvSpPr/>
            <p:nvPr/>
          </p:nvSpPr>
          <p:spPr>
            <a:xfrm>
              <a:off x="531360" y="5445000"/>
              <a:ext cx="8187480" cy="576360"/>
            </a:xfrm>
            <a:prstGeom prst="rect">
              <a:avLst/>
            </a:prstGeom>
            <a:solidFill>
              <a:srgbClr val="f0ebff"/>
            </a:solidFill>
            <a:ln w="9360">
              <a:solidFill>
                <a:srgbClr val="450a7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8920" indent="-88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1360" y="5536800"/>
              <a:ext cx="8592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476360" y="5373720"/>
            <a:ext cx="8713800" cy="792000"/>
            <a:chOff x="1476360" y="5373720"/>
            <a:chExt cx="8713800" cy="792000"/>
          </a:xfrm>
        </p:grpSpPr>
        <p:sp>
          <p:nvSpPr>
            <p:cNvPr id="527" name=""/>
            <p:cNvSpPr/>
            <p:nvPr/>
          </p:nvSpPr>
          <p:spPr>
            <a:xfrm>
              <a:off x="1476360" y="5373720"/>
              <a:ext cx="87138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21080" y="5756040"/>
              <a:ext cx="8442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84320" indent="-184320">
                <a:lnSpc>
                  <a:spcPct val="120000"/>
                </a:lnSpc>
                <a:tabLst>
                  <a:tab algn="l" pos="0"/>
                  <a:tab algn="l" pos="932040"/>
                  <a:tab algn="l" pos="1863720"/>
                  <a:tab algn="l" pos="2795760"/>
                  <a:tab algn="l" pos="3727440"/>
                  <a:tab algn="l" pos="4659480"/>
                  <a:tab algn="l" pos="5591160"/>
                  <a:tab algn="l" pos="6523200"/>
                  <a:tab algn="l" pos="7454880"/>
                  <a:tab algn="l" pos="8386920"/>
                  <a:tab algn="l" pos="9318600"/>
                  <a:tab algn="l" pos="1025064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lear goals &amp; responsibilities – concrete actions – definite consequ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19200" y="5386320"/>
              <a:ext cx="53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                </a:t>
              </a:r>
              <a:r>
                <a:rPr b="1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mmunication: Let‘s talk about i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1963800" y="3924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[ratio </a:t>
            </a:r>
            <a:r>
              <a:rPr b="1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↑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7720" y="4140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[ratio </a:t>
            </a:r>
            <a:r>
              <a:rPr b="1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↑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741920" y="4597560"/>
            <a:ext cx="1227240" cy="760320"/>
            <a:chOff x="4741920" y="4597560"/>
            <a:chExt cx="1227240" cy="760320"/>
          </a:xfrm>
        </p:grpSpPr>
        <p:sp>
          <p:nvSpPr>
            <p:cNvPr id="533" name=""/>
            <p:cNvSpPr/>
            <p:nvPr/>
          </p:nvSpPr>
          <p:spPr>
            <a:xfrm>
              <a:off x="4754520" y="4597560"/>
              <a:ext cx="1169280" cy="760320"/>
            </a:xfrm>
            <a:prstGeom prst="rect">
              <a:avLst/>
            </a:prstGeom>
            <a:solidFill>
              <a:srgbClr val="f0ebff"/>
            </a:solidFill>
            <a:ln w="9360">
              <a:solidFill>
                <a:srgbClr val="450a7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8920" indent="-88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41920" y="4718880"/>
              <a:ext cx="1227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st in Test Con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6197760" y="2521080"/>
            <a:ext cx="1296720" cy="72072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450a7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86600" y="263700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ven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05480" y="28940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[#</a:t>
            </a:r>
            <a:r>
              <a:rPr b="1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↑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848640" y="2276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79280" y="4508640"/>
            <a:ext cx="871380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9A1-55A3-40E8-8AC4-2B047D25C20E}" type="slidenum">
              <a:t>13</a:t>
            </a:fld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9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309600" y="343080"/>
          <a:ext cx="8628120" cy="6767280"/>
        </p:xfrm>
        <a:graphic>
          <a:graphicData uri="http://schemas.openxmlformats.org/drawingml/2006/table">
            <a:tbl>
              <a:tblPr/>
              <a:tblGrid>
                <a:gridCol w="2157480"/>
                <a:gridCol w="2941560"/>
                <a:gridCol w="1371600"/>
                <a:gridCol w="2157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0mar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Uniform</a:t>
                      </a:r>
                      <a:r>
                        <a:rPr b="0" lang="en-US" sz="11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Commu-nication in R&amp;D;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Bocionek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ongo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stablish regular all hands communication (Jan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ngange in breakfast club and other activities (start Feb 06) – Invitation is out for 5-Apr-063. NEW: Include PHA R&amp;D in those activities after the PHE/PHA merge (start April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2nd all hands R&amp;D meeting on 31. March 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First alignment meetings with PHA R&amp;D 23/24 M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breakfast club in Apr 0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inion"/>
                          <a:ea typeface="Arial Unicode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>
                          <a:solidFill>
                            <a:srgbClr val="cc0000"/>
                          </a:solidFill>
                          <a:latin typeface="Arial"/>
                          <a:ea typeface="Arial Unicode MS"/>
                        </a:rPr>
                        <a:t>High-performing culture &amp; commitment-driven behavior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; </a:t>
                      </a:r>
                      <a:r>
                        <a:rPr b="0" lang="en-US" sz="1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Bocionek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inion"/>
                          <a:ea typeface="Arial Unicode MS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Start: Jan 0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End: Dec 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repeat every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LQA March 06</a:t>
                      </a: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"/>
          <p:cNvSpPr/>
          <p:nvPr/>
        </p:nvSpPr>
        <p:spPr>
          <a:xfrm rot="16200000">
            <a:off x="5959440" y="1339560"/>
            <a:ext cx="18108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6200000">
            <a:off x="6169680" y="1567080"/>
            <a:ext cx="10620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67080" y="3560760"/>
            <a:ext cx="3373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1. KPI metrics (Jan 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2. Mgmt Objectives aligned and signed (Feb 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3. Balanced Score cards (Fe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06, moved to Apr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4. LQA analysis (R&amp;D on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May 06; moved to Mar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4b. opinion poll poss. in 2Q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5. Peer Rating in Mgmt (R&amp;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only; Sept 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6. 10 Basic Aspects (Oct 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7. Feedback rounds, EFA (Nov/Dec 06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6200000">
            <a:off x="5959440" y="4285800"/>
            <a:ext cx="18108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6169680" y="4514040"/>
            <a:ext cx="10656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E5C-0EF5-4262-81C5-95D8B704EA8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9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309600" y="343080"/>
          <a:ext cx="8628120" cy="3890880"/>
        </p:xfrm>
        <a:graphic>
          <a:graphicData uri="http://schemas.openxmlformats.org/drawingml/2006/table">
            <a:tbl>
              <a:tblPr/>
              <a:tblGrid>
                <a:gridCol w="2157480"/>
                <a:gridCol w="2941560"/>
                <a:gridCol w="1371600"/>
                <a:gridCol w="2157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0mar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Real Model-V: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ntroduce process culture and discipline;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Ass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Start: Jan 06   End: Sep 0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Name project lead (Feb. 06) – M. Ass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Project Plan (Mar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Education starts (Mar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Internal customer satisfaction metrics set (Mar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CIP targets set (Apr.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Process adaptations completed (Jun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CMMI baseline available(Sep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2nd all hands R&amp;D meeting on 31. March 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First alignment meetings with PHA R&amp;D 23/24 M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breakfast club in Apr 0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inion"/>
                          <a:ea typeface="Arial Unicode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49" name=""/>
          <p:cNvGrpSpPr/>
          <p:nvPr/>
        </p:nvGrpSpPr>
        <p:grpSpPr>
          <a:xfrm>
            <a:off x="5749920" y="1634760"/>
            <a:ext cx="600120" cy="182520"/>
            <a:chOff x="5749920" y="1634760"/>
            <a:chExt cx="600120" cy="182520"/>
          </a:xfrm>
        </p:grpSpPr>
        <p:sp>
          <p:nvSpPr>
            <p:cNvPr id="550" name=""/>
            <p:cNvSpPr/>
            <p:nvPr/>
          </p:nvSpPr>
          <p:spPr>
            <a:xfrm rot="16200000">
              <a:off x="5958720" y="142596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16200000">
              <a:off x="6054840" y="1652400"/>
              <a:ext cx="106200" cy="147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27DD-61D5-443B-A212-5EE651789FB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9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309600" y="343080"/>
          <a:ext cx="8628120" cy="6494040"/>
        </p:xfrm>
        <a:graphic>
          <a:graphicData uri="http://schemas.openxmlformats.org/drawingml/2006/table">
            <a:tbl>
              <a:tblPr/>
              <a:tblGrid>
                <a:gridCol w="2157480"/>
                <a:gridCol w="2941560"/>
                <a:gridCol w="1371600"/>
                <a:gridCol w="2157480"/>
              </a:tblGrid>
              <a:tr h="84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0mar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Minion"/>
                          <a:ea typeface="文鼎中黑"/>
                        </a:rPr>
                        <a:t>Going Agile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inion"/>
                          <a:ea typeface="文鼎中黑"/>
                        </a:rPr>
                        <a:t> U.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Minion"/>
                          <a:ea typeface="文鼎中黑"/>
                        </a:rPr>
                        <a:t>Schmit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inion"/>
                          <a:ea typeface="文鼎中黑"/>
                        </a:rPr>
                        <a:t>, Faessler, Rudol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3a0e66"/>
                          </a:solidFill>
                          <a:latin typeface="Arial"/>
                          <a:ea typeface="文鼎中黑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Arial"/>
                          <a:ea typeface="文鼎中黑"/>
                        </a:rPr>
                        <a:t>: Jan 0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Arial"/>
                          <a:ea typeface="文鼎中黑"/>
                        </a:rPr>
                        <a:t>End: Dec 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Arial"/>
                          <a:ea typeface="文鼎中黑"/>
                        </a:rPr>
                        <a:t>repeat every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ioritize and start processing transition back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art decomposing architecture of Ruby with OM ons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volve Agile in ‚Fit 4 Apoxi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4" name=""/>
          <p:cNvSpPr/>
          <p:nvPr/>
        </p:nvSpPr>
        <p:spPr>
          <a:xfrm>
            <a:off x="2467080" y="1122480"/>
            <a:ext cx="3373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1. Kick-off for selected projects (01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2.   2. Broad Introduction of Methodology (02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3. Start Ruby on Agile (02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4. Setup transition team (02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5. Mentoring by OM starts (03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6. Create prioritized transition backlog and transition plan (03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7. Start Gemstone project on Agile (03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8. Scrum teams and sprint planning of pilots established (05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9. Pilot teams trained for TDD and agile principles (06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10. New R&amp;D process for Agile development released (09/06) – proposal in 07/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11. Start full transition program (09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12. Organization prepared for full agile transition (12/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16200000">
            <a:off x="5959440" y="3257280"/>
            <a:ext cx="18108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6169680" y="3484800"/>
            <a:ext cx="10620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440-C7D8-41C6-B3A3-A35137C6DA4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9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309600" y="343080"/>
          <a:ext cx="8628120" cy="6557760"/>
        </p:xfrm>
        <a:graphic>
          <a:graphicData uri="http://schemas.openxmlformats.org/drawingml/2006/table">
            <a:tbl>
              <a:tblPr/>
              <a:tblGrid>
                <a:gridCol w="2157480"/>
                <a:gridCol w="2941560"/>
                <a:gridCol w="1371600"/>
                <a:gridCol w="2157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0mar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5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Best-in-Test:</a:t>
                      </a:r>
                      <a:r>
                        <a:rPr b="0" lang="en-US" sz="1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Wack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Jun 06; continue measur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1 First metric setup: Feb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2 – 1.5 complete metrics set up (e.g. defect injection analysis) (May 06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Roll out “new bugs after S4” metric (May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Test cases for TDD in scrum team in time (May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Roll out “changed LOC” metric after C3 (May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Roll out “first pass yield” metric (May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KPI targets ST based on metrics data (June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etailled data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Further alignment with Q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Minion"/>
                          <a:ea typeface="文鼎中黑"/>
                        </a:rPr>
                        <a:t>Best-in-IT to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Minion"/>
                          <a:ea typeface="文鼎中黑"/>
                        </a:rPr>
                        <a:t>Leader: T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a0e66"/>
                          </a:solidFill>
                          <a:uFillTx/>
                          <a:latin typeface="Minion"/>
                          <a:ea typeface="文鼎中黑"/>
                        </a:rPr>
                        <a:t>Start: Jan 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a0e66"/>
                          </a:solidFill>
                          <a:uFillTx/>
                          <a:latin typeface="Minion"/>
                          <a:ea typeface="文鼎中黑"/>
                        </a:rPr>
                        <a:t>End: Jun 06; continue measuring</a:t>
                      </a: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3a0e66"/>
                          </a:solidFill>
                          <a:latin typeface="Arial Unicode MS"/>
                          <a:ea typeface="文鼎中黑"/>
                        </a:rPr>
                        <a:t>Project lead change to H. Thonhauser (acting); re-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"/>
          <p:cNvSpPr/>
          <p:nvPr/>
        </p:nvSpPr>
        <p:spPr>
          <a:xfrm rot="16200000">
            <a:off x="5959440" y="1949040"/>
            <a:ext cx="18108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16200000">
            <a:off x="6169680" y="2177280"/>
            <a:ext cx="10656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781600" y="5567040"/>
            <a:ext cx="600120" cy="182520"/>
            <a:chOff x="5781600" y="5567040"/>
            <a:chExt cx="600120" cy="182520"/>
          </a:xfrm>
        </p:grpSpPr>
        <p:sp>
          <p:nvSpPr>
            <p:cNvPr id="562" name=""/>
            <p:cNvSpPr/>
            <p:nvPr/>
          </p:nvSpPr>
          <p:spPr>
            <a:xfrm rot="16200000">
              <a:off x="5990400" y="535824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6200000">
              <a:off x="5851440" y="5584680"/>
              <a:ext cx="106200" cy="147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467080" y="47512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1. Project Plan (Feb 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2. Consolidate all team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PLM (Mar 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3. Start centralizing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infra-structure (Mar 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4. Increase automa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tool chain (Jul 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F21-0096-4F11-8E6D-3E762F5F010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9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09600" y="343080"/>
          <a:ext cx="8628120" cy="6340320"/>
        </p:xfrm>
        <a:graphic>
          <a:graphicData uri="http://schemas.openxmlformats.org/drawingml/2006/table">
            <a:tbl>
              <a:tblPr/>
              <a:tblGrid>
                <a:gridCol w="2157480"/>
                <a:gridCol w="2941560"/>
                <a:gridCol w="1371600"/>
                <a:gridCol w="2157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0mar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100" spc="-1" strike="noStrike">
                          <a:solidFill>
                            <a:srgbClr val="cc0000"/>
                          </a:solidFill>
                          <a:latin typeface="Arial"/>
                          <a:ea typeface="Arial Unicode MS"/>
                        </a:rPr>
                        <a:t>Invent the futur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Bauregge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, Hartman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nd: Jun 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Agree on invention disclosure targets (Jan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Start invention initiative (Feb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Implement incentive proposal (Mar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90 invention disclosures filed (Jul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180 invention disclosures filed (Dec 06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Launch initiative (Feb 06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>
                          <a:solidFill>
                            <a:srgbClr val="cc0000"/>
                          </a:solidFill>
                          <a:latin typeface="Arial"/>
                          <a:ea typeface="Arial Unicode MS"/>
                        </a:rPr>
                        <a:t>Platform &amp; Portfolio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; 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SB + J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ortfolio / Roadmap vs R&amp;D budget alignment underway in March 0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 rot="16200000">
            <a:off x="5959440" y="1364760"/>
            <a:ext cx="18108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6169680" y="1593000"/>
            <a:ext cx="10656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67080" y="37101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1. Define alignment &amp;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mgmt process (Feb 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2. clarify platform respons.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activities (Feb 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2b. NEW: portfolio – bud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alignment (Mar 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3. define re-use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(Mar 06) will become Apr 0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1ED3-62CC-43ED-B5C2-4FA0E9CDB1B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9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309600" y="343080"/>
          <a:ext cx="8628120" cy="6551280"/>
        </p:xfrm>
        <a:graphic>
          <a:graphicData uri="http://schemas.openxmlformats.org/drawingml/2006/table">
            <a:tbl>
              <a:tblPr/>
              <a:tblGrid>
                <a:gridCol w="2157480"/>
                <a:gridCol w="2941560"/>
                <a:gridCol w="1371600"/>
                <a:gridCol w="2157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0mar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100" spc="-1" strike="noStrike">
                          <a:solidFill>
                            <a:srgbClr val="cc0000"/>
                          </a:solidFill>
                          <a:latin typeface="Arial"/>
                          <a:ea typeface="Arial Unicode MS"/>
                        </a:rPr>
                        <a:t>cleanApoxi platfor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; 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Faessl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Start: Jan 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End: Dec 06 (perhaps earlier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Align all parties incl. IFX, Teleca (Feb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Analysis worksh/ (Mar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Diamond decision (Mar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Publish formal platform concept, incl. technic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pecification and usage model (Apr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Start skills enhancement program (May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Close gaps in Apoxi (tbd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. First Apoxi product (tbd; hopefully Apr 07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orkshop (start 05-Mar-06), Diamond decision (latest EO March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>
                          <a:solidFill>
                            <a:srgbClr val="cc0000"/>
                          </a:solidFill>
                          <a:latin typeface="Arial"/>
                          <a:ea typeface="Arial Unicode MS"/>
                        </a:rPr>
                        <a:t>U2 projects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; 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Faessler, Rudolp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Start: Jan 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End: Mar 06; continue from the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 practi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blish dedica-ted U2 project control room MU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able team spirit and competition from reported results (03/20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 rot="16200000">
            <a:off x="5959440" y="1364760"/>
            <a:ext cx="18108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16200000">
            <a:off x="6169680" y="1593000"/>
            <a:ext cx="10656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67080" y="4510080"/>
            <a:ext cx="328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. Establish weekly reporting of commitment and fulfillment (0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2. Utilize reporting charts as project/PL control methods (02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3. Enable team spirit and competition from reported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16200000">
            <a:off x="5959440" y="6267240"/>
            <a:ext cx="18072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16200000">
            <a:off x="6169680" y="6494760"/>
            <a:ext cx="10620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437C-E883-4A44-8CF6-4693CA99FCA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Outlin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 Unicode MS"/>
              </a:rPr>
              <a:t>Feedback to 1st All Hands Meet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 Unicode MS"/>
              </a:rPr>
              <a:t>BenQ Highligh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 Unicode MS"/>
              </a:rPr>
              <a:t>Status PLM Excellence progr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 Unicode MS"/>
              </a:rPr>
              <a:t>Combination of PHA and PH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 Unicode MS"/>
              </a:rPr>
              <a:t>Q&amp;A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550-5CB8-4B70-AAFA-E2DD90A6300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9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309600" y="343080"/>
          <a:ext cx="8628120" cy="3379680"/>
        </p:xfrm>
        <a:graphic>
          <a:graphicData uri="http://schemas.openxmlformats.org/drawingml/2006/table">
            <a:tbl>
              <a:tblPr/>
              <a:tblGrid>
                <a:gridCol w="2157480"/>
                <a:gridCol w="2941560"/>
                <a:gridCol w="1371600"/>
                <a:gridCol w="2157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0mar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900" spc="-1" strike="noStrike">
                          <a:solidFill>
                            <a:srgbClr val="cc0000"/>
                          </a:solidFill>
                          <a:latin typeface="Arial"/>
                          <a:ea typeface="Arial Unicode MS"/>
                        </a:rPr>
                        <a:t>Quality Up of M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; 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Thonhauser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inion"/>
                          <a:ea typeface="Arial Unicode MS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nd: Jun 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PLM MD excellence program and KPI‘s (Jan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Improvement project starts (Feb 0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Visible results (Jul 06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33cc33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rack monthly KPI‘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"/>
          <p:cNvSpPr/>
          <p:nvPr/>
        </p:nvSpPr>
        <p:spPr>
          <a:xfrm rot="16200000">
            <a:off x="5959440" y="1910880"/>
            <a:ext cx="18108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rot="16200000">
            <a:off x="6169680" y="2139120"/>
            <a:ext cx="10656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320" y="4057560"/>
            <a:ext cx="666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To come so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„</a:t>
            </a:r>
            <a:r>
              <a:rPr b="0" lang="de-DE" sz="2000" spc="-1" strike="noStrike">
                <a:solidFill>
                  <a:srgbClr val="cc0000"/>
                </a:solidFill>
                <a:latin typeface="Arial"/>
                <a:ea typeface="文鼎中黑"/>
              </a:rPr>
              <a:t>Best-in-class requirement engineering</a:t>
            </a: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“ (led by CM/CP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Future Reporting in R&amp;D All Hands Mee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Selected PLM-excellence projects shar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26F-77DE-4A09-A0DD-F9F01F43F33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7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Arial Unicode MS"/>
              </a:rPr>
              <a:t>Combination of PHA and PH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B55-762D-4074-A193-D8F7D62031C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79280" y="-25488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MG Product House Set-Up</a:t>
            </a:r>
            <a:br>
              <a:rPr sz="3200"/>
            </a:b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Reasoning for bringing both Product House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35080" y="993600"/>
            <a:ext cx="8624880" cy="10368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7440" y="993600"/>
            <a:ext cx="2246400" cy="103680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3" y="0"/>
                </a:lnTo>
                <a:lnTo>
                  <a:pt x="21600" y="10800"/>
                </a:lnTo>
                <a:lnTo>
                  <a:pt x="17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BMG Product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562120" y="987480"/>
            <a:ext cx="6297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Realizing synergies / commun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tandardized targets, structures, KPIs &amp;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implified structure with clear responsi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Faster alignment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739800" y="2073240"/>
            <a:ext cx="8120160" cy="1953720"/>
            <a:chOff x="739800" y="2073240"/>
            <a:chExt cx="8120160" cy="1953720"/>
          </a:xfrm>
        </p:grpSpPr>
        <p:sp>
          <p:nvSpPr>
            <p:cNvPr id="589" name=""/>
            <p:cNvSpPr/>
            <p:nvPr/>
          </p:nvSpPr>
          <p:spPr>
            <a:xfrm>
              <a:off x="755640" y="2109960"/>
              <a:ext cx="8104320" cy="12603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9800" y="2109960"/>
              <a:ext cx="1717560" cy="12603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R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Research &amp;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62120" y="2073240"/>
              <a:ext cx="6297840" cy="19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Increased efficiency – reuse of technologies &amp; higher uti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Clearer program responsi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ore speed and market flexibility than totally centralistic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systems &amp; software architecture, predevelopments &amp; innov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eveloping global platform 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Alignment needs on system concept and 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739800" y="3446640"/>
            <a:ext cx="8120160" cy="1333800"/>
            <a:chOff x="739800" y="3446640"/>
            <a:chExt cx="8120160" cy="1333800"/>
          </a:xfrm>
        </p:grpSpPr>
        <p:sp>
          <p:nvSpPr>
            <p:cNvPr id="593" name=""/>
            <p:cNvSpPr/>
            <p:nvPr/>
          </p:nvSpPr>
          <p:spPr>
            <a:xfrm>
              <a:off x="755640" y="3454560"/>
              <a:ext cx="8104320" cy="10857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39800" y="3454560"/>
              <a:ext cx="1717560" cy="10857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TP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Technical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duct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62120" y="3446640"/>
              <a:ext cx="62978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riving product realization across all Product Hous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PEED and COST focus (T2M, T2V as well as product cost, quali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Project management excell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End2end responsibility – from cradle to gr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Potential conflicts with product line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739800" y="4611600"/>
            <a:ext cx="8120160" cy="941400"/>
            <a:chOff x="739800" y="4611600"/>
            <a:chExt cx="8120160" cy="941400"/>
          </a:xfrm>
        </p:grpSpPr>
        <p:sp>
          <p:nvSpPr>
            <p:cNvPr id="597" name=""/>
            <p:cNvSpPr/>
            <p:nvPr/>
          </p:nvSpPr>
          <p:spPr>
            <a:xfrm>
              <a:off x="755640" y="4611600"/>
              <a:ext cx="8104320" cy="9414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39800" y="4611600"/>
              <a:ext cx="1717560" cy="9414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P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trategic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62120" y="4888080"/>
              <a:ext cx="62978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ynergy, Simplification, Better Resources Sharing &amp; Negotiation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39800" y="5629320"/>
            <a:ext cx="8120160" cy="1229760"/>
            <a:chOff x="739800" y="5629320"/>
            <a:chExt cx="8120160" cy="1229760"/>
          </a:xfrm>
        </p:grpSpPr>
        <p:sp>
          <p:nvSpPr>
            <p:cNvPr id="601" name=""/>
            <p:cNvSpPr/>
            <p:nvPr/>
          </p:nvSpPr>
          <p:spPr>
            <a:xfrm>
              <a:off x="755640" y="5629320"/>
              <a:ext cx="8104320" cy="9396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9800" y="5629320"/>
              <a:ext cx="1717560" cy="9396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C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62120" y="5670720"/>
              <a:ext cx="629784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is part of regional operations – fitting to BenQ princi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can possibly be basis for multiple product ran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functions of QM, OF, TLM &amp; MO with regional off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625-6162-4BD3-A382-1A79EEF4F92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179280" y="-25488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MG Product House Set-Up</a:t>
            </a:r>
            <a:br>
              <a:rPr sz="3200"/>
            </a:b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Reasoning for bringing both Product House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35080" y="993600"/>
            <a:ext cx="8624880" cy="10368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17440" y="993600"/>
            <a:ext cx="2246400" cy="103680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3" y="0"/>
                </a:lnTo>
                <a:lnTo>
                  <a:pt x="21600" y="10800"/>
                </a:lnTo>
                <a:lnTo>
                  <a:pt x="17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</a:rPr>
              <a:t>BMG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62120" y="987480"/>
            <a:ext cx="6297840" cy="278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ion"/>
              </a:rPr>
              <a:t>+ Realizing synergies / commun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ion"/>
              </a:rPr>
              <a:t>+ Standardized targets, structures, KPIs &amp;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ion"/>
              </a:rPr>
              <a:t>+ Simplified structure with clear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ion"/>
              </a:rPr>
              <a:t>+ Faster alignment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ADB-D7BF-4F87-9032-5D24BCBE1EB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79280" y="-25488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MG Product House Set-Up</a:t>
            </a:r>
            <a:br>
              <a:rPr sz="3200"/>
            </a:b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Reasoning for bringing both Product House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79320" y="2109960"/>
            <a:ext cx="8104320" cy="126036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06280" y="2109960"/>
            <a:ext cx="2355840" cy="1260360"/>
          </a:xfrm>
          <a:custGeom>
            <a:avLst/>
            <a:gdLst>
              <a:gd name="textAreaLeft" fmla="*/ 0 w 2355840"/>
              <a:gd name="textAreaRight" fmla="*/ 2356200 w 235584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</a:rPr>
              <a:t>BMG PH R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Minion"/>
              </a:rPr>
              <a:t>Research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Minion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86160" y="2073240"/>
            <a:ext cx="6297480" cy="32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+ Increased efficiency – reuse of technologies &amp; higher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+ Clearer program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+ More speed and market flexibility than totally centralist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+ Global systems &amp; software architecture, predevelopments &amp; in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+ Developing global platform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-  Alignment needs on system concept and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3A2-6688-45BF-9625-275E2848661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144000"/>
            <a:ext cx="6747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5" name=""/>
          <p:cNvSpPr/>
          <p:nvPr/>
        </p:nvSpPr>
        <p:spPr>
          <a:xfrm>
            <a:off x="7470720" y="3451320"/>
            <a:ext cx="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14720" y="1009800"/>
            <a:ext cx="4697280" cy="75564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14720" y="1228680"/>
            <a:ext cx="469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Minion"/>
              </a:rPr>
              <a:t>Jochen Eickholt &amp; Irwin C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66840" y="2111400"/>
            <a:ext cx="8417880" cy="2626560"/>
            <a:chOff x="366840" y="2111400"/>
            <a:chExt cx="8417880" cy="2626560"/>
          </a:xfrm>
        </p:grpSpPr>
        <p:sp>
          <p:nvSpPr>
            <p:cNvPr id="619" name=""/>
            <p:cNvSpPr/>
            <p:nvPr/>
          </p:nvSpPr>
          <p:spPr>
            <a:xfrm>
              <a:off x="366840" y="2111400"/>
              <a:ext cx="2005560" cy="262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PH TP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Technical Product</a:t>
              </a:r>
              <a:br>
                <a:rPr sz="2000"/>
              </a:b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Holger Asmussen /</a:t>
              </a:r>
              <a:br>
                <a:rPr sz="2000"/>
              </a:b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Pat Hsu / </a:t>
              </a:r>
              <a:br>
                <a:rPr sz="2000"/>
              </a:b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act. Katrin Brau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11000" y="2111400"/>
              <a:ext cx="2009520" cy="2626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ion"/>
                </a:rPr>
                <a:t>PH 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Minion"/>
                </a:rPr>
                <a:t>Research &amp;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Minion"/>
                </a:rPr>
                <a:t>Develo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Minion"/>
                </a:rPr>
                <a:t>Siegfried Bocione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Minion"/>
                </a:rPr>
                <a:t>Yungchia Lee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Minion"/>
                </a:rPr>
                <a:t>(deput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32120" y="2111400"/>
              <a:ext cx="2005920" cy="262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PH 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Strategic</a:t>
              </a:r>
              <a:br>
                <a:rPr sz="2000"/>
              </a:b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Procur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Teresa W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act. Jens Danneil</a:t>
              </a:r>
              <a:br>
                <a:rPr sz="2000"/>
              </a:b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80960" y="2111400"/>
              <a:ext cx="2003760" cy="262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PH S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Supply Chain</a:t>
              </a:r>
              <a:br>
                <a:rPr sz="2000"/>
              </a:b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Bernd Schm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Gerold Simbürger</a:t>
              </a:r>
              <a:br>
                <a:rPr sz="2000"/>
              </a:b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3" name=""/>
          <p:cNvCxnSpPr>
            <a:stCxn id="616" idx="2"/>
            <a:endCxn id="619" idx="0"/>
          </p:cNvCxnSpPr>
          <p:nvPr/>
        </p:nvCxnSpPr>
        <p:spPr>
          <a:xfrm rot="5400000">
            <a:off x="2793600" y="341280"/>
            <a:ext cx="346680" cy="31946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616" idx="2"/>
            <a:endCxn id="620" idx="0"/>
          </p:cNvCxnSpPr>
          <p:nvPr/>
        </p:nvCxnSpPr>
        <p:spPr>
          <a:xfrm rot="5400000">
            <a:off x="3876120" y="1405080"/>
            <a:ext cx="327600" cy="1048320"/>
          </a:xfrm>
          <a:prstGeom prst="bentConnector3">
            <a:avLst>
              <a:gd name="adj1" fmla="val 52805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25" name=""/>
          <p:cNvCxnSpPr>
            <a:stCxn id="616" idx="2"/>
            <a:endCxn id="621" idx="0"/>
          </p:cNvCxnSpPr>
          <p:nvPr/>
        </p:nvCxnSpPr>
        <p:spPr>
          <a:xfrm flipH="1" rot="16200000">
            <a:off x="4925880" y="1402200"/>
            <a:ext cx="346680" cy="10724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26" name=""/>
          <p:cNvCxnSpPr>
            <a:stCxn id="616" idx="2"/>
            <a:endCxn id="622" idx="0"/>
          </p:cNvCxnSpPr>
          <p:nvPr/>
        </p:nvCxnSpPr>
        <p:spPr>
          <a:xfrm flipH="1" rot="16200000">
            <a:off x="5999760" y="328320"/>
            <a:ext cx="346680" cy="32202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509760" y="5040360"/>
            <a:ext cx="82468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duct House BA responsibility with L. So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PMingLiU"/>
              </a:rPr>
              <a:t>TPM BA is integrated into RD BA as both organizations cope with project cont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PMingLiU"/>
              </a:rPr>
              <a:t>SP BA is integrated in SCM BA in order to better cope with the product cost 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0600" y="4915080"/>
            <a:ext cx="8353440" cy="1706400"/>
          </a:xfrm>
          <a:prstGeom prst="rect">
            <a:avLst/>
          </a:prstGeom>
          <a:noFill/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E21B-334E-45BE-9194-2D90F67D453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78920" y="-254880"/>
            <a:ext cx="823140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BMG Product House Set-Up: R&amp;D with products and platforms assigned to four R&amp;D Center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119160" y="1409760"/>
            <a:ext cx="807840" cy="5387760"/>
            <a:chOff x="119160" y="1409760"/>
            <a:chExt cx="807840" cy="5387760"/>
          </a:xfrm>
        </p:grpSpPr>
        <p:sp>
          <p:nvSpPr>
            <p:cNvPr id="632" name=""/>
            <p:cNvSpPr/>
            <p:nvPr/>
          </p:nvSpPr>
          <p:spPr>
            <a:xfrm>
              <a:off x="119160" y="1409760"/>
              <a:ext cx="807840" cy="538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6120" y="1476360"/>
              <a:ext cx="72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TP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635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81000" y="1405080"/>
            <a:ext cx="62978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176560" y="341640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1112760" y="2235240"/>
            <a:ext cx="5491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159200" y="14698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flipV="1">
            <a:off x="1112760" y="2236320"/>
            <a:ext cx="28800" cy="378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1131480" y="3578400"/>
            <a:ext cx="204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1133640" y="4171680"/>
            <a:ext cx="204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1134720" y="481932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1137960" y="542088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1130040" y="602244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233360" y="3306600"/>
            <a:ext cx="1173240" cy="532080"/>
          </a:xfrm>
          <a:prstGeom prst="rect">
            <a:avLst/>
          </a:pr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Minion"/>
              </a:rPr>
              <a:t>Process, Tools,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Minion"/>
              </a:rPr>
              <a:t>Methodolog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193840" y="3998880"/>
            <a:ext cx="5079960" cy="33516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05000" y="464184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205000" y="52531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05000" y="58453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35160" y="3900600"/>
            <a:ext cx="1173240" cy="531720"/>
          </a:xfrm>
          <a:prstGeom prst="rect">
            <a:avLst/>
          </a:pr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Minion"/>
              </a:rPr>
              <a:t>System Concepts </a:t>
            </a:r>
            <a:br>
              <a:rPr sz="1300"/>
            </a:br>
            <a:r>
              <a:rPr b="0" lang="en-US" sz="900" spc="-1" strike="noStrike">
                <a:solidFill>
                  <a:srgbClr val="ffffff"/>
                </a:solidFill>
                <a:latin typeface="Minion"/>
              </a:rPr>
              <a:t>SW Arch. 3</a:t>
            </a:r>
            <a:r>
              <a:rPr b="0" lang="en-US" sz="900" spc="-1" strike="noStrike" baseline="30000">
                <a:solidFill>
                  <a:srgbClr val="ffffff"/>
                </a:solidFill>
                <a:latin typeface="Minion"/>
              </a:rPr>
              <a:t>rd</a:t>
            </a:r>
            <a:r>
              <a:rPr b="0" lang="en-US" sz="900" spc="-1" strike="noStrike">
                <a:solidFill>
                  <a:srgbClr val="ffffff"/>
                </a:solidFill>
                <a:latin typeface="Minion"/>
              </a:rPr>
              <a:t> par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Minion"/>
              </a:rPr>
              <a:t>Integration, predevelopm</a:t>
            </a:r>
            <a:r>
              <a:rPr b="1" lang="en-US" sz="1000" spc="-1" strike="noStrike">
                <a:solidFill>
                  <a:srgbClr val="ffffff"/>
                </a:solidFill>
                <a:latin typeface="Minio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36600" y="4549680"/>
            <a:ext cx="1173240" cy="532080"/>
          </a:xfrm>
          <a:prstGeom prst="rect">
            <a:avLst/>
          </a:pr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Minion"/>
              </a:rPr>
              <a:t>Industrialization </a:t>
            </a:r>
            <a:br>
              <a:rPr sz="1300"/>
            </a:br>
            <a:r>
              <a:rPr b="0" lang="en-US" sz="900" spc="-1" strike="noStrike">
                <a:solidFill>
                  <a:srgbClr val="ffffff"/>
                </a:solidFill>
                <a:latin typeface="Minion"/>
              </a:rPr>
              <a:t>MD, layout, assemb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Minion"/>
              </a:rPr>
              <a:t>concept, Production 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239840" y="5149800"/>
            <a:ext cx="1173240" cy="531720"/>
          </a:xfrm>
          <a:prstGeom prst="rect">
            <a:avLst/>
          </a:pr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Minion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Minion"/>
              </a:rPr>
              <a:t>&amp;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31920" y="5754600"/>
            <a:ext cx="1173240" cy="527040"/>
          </a:xfrm>
          <a:prstGeom prst="rect">
            <a:avLst/>
          </a:prstGeom>
          <a:solidFill>
            <a:srgbClr val="800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Minion"/>
              </a:rPr>
              <a:t>Value Added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Minion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804920" y="1739880"/>
            <a:ext cx="972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08448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5400000">
            <a:off x="999720" y="3824280"/>
            <a:ext cx="4092480" cy="111744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5400000">
            <a:off x="3360240" y="3819240"/>
            <a:ext cx="4092480" cy="112428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23960" y="2378160"/>
            <a:ext cx="103356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unich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anaus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5400000">
            <a:off x="2177640" y="3822840"/>
            <a:ext cx="4092480" cy="111744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422280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06920" y="2378160"/>
            <a:ext cx="103320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Taipe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Hsinch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uzho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5400000">
            <a:off x="4547880" y="3825720"/>
            <a:ext cx="4092840" cy="112392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6602400" y="224316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00720" y="225108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07212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V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Kamp-Lintfort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755440" y="3155760"/>
            <a:ext cx="4087440" cy="1958760"/>
            <a:chOff x="2755440" y="3155760"/>
            <a:chExt cx="4087440" cy="1958760"/>
          </a:xfrm>
        </p:grpSpPr>
        <p:sp>
          <p:nvSpPr>
            <p:cNvPr id="672" name=""/>
            <p:cNvSpPr/>
            <p:nvPr/>
          </p:nvSpPr>
          <p:spPr>
            <a:xfrm flipH="1" flipV="1">
              <a:off x="2755440" y="315720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 rot="10800000">
              <a:off x="2880360" y="38322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 rot="10800000">
              <a:off x="2890800" y="42753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flipV="1" rot="10800000">
              <a:off x="2890800" y="472500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2771280" y="44622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2765520" y="40230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2763360" y="49003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2765520" y="35712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 rot="10800000">
              <a:off x="2884320" y="33807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flipV="1">
              <a:off x="3844440" y="315576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 rot="10800000">
              <a:off x="3969360" y="38304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flipV="1" rot="10800000">
              <a:off x="3979800" y="4272840"/>
              <a:ext cx="57168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 rot="10800000">
              <a:off x="3979800" y="47235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3860280" y="44611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3854520" y="4020480"/>
              <a:ext cx="10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3852360" y="48996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3854520" y="3569760"/>
              <a:ext cx="10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 rot="10800000">
              <a:off x="3972600" y="33793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5021280" y="3163680"/>
              <a:ext cx="15840" cy="175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flipV="1" rot="10800000">
              <a:off x="5146560" y="383940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flipV="1" rot="10800000">
              <a:off x="5155200" y="428364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 flipV="1" rot="10800000">
              <a:off x="5155200" y="473328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5035320" y="44701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5028840" y="40309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5028840" y="490788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5028840" y="357804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 rot="10800000">
              <a:off x="5149800" y="338868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6137280" y="3171960"/>
              <a:ext cx="1728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 rot="10800000">
              <a:off x="6262560" y="384732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 rot="10800000">
              <a:off x="6271200" y="429156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 rot="10800000">
              <a:off x="6271200" y="47401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6152760" y="44784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6146280" y="403920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6144840" y="49158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6146280" y="358596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 rot="10800000">
              <a:off x="6265800" y="339552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88808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Beijing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hangha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495600" y="1496880"/>
            <a:ext cx="2546280" cy="6001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Siegfried Bocione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Yungchai Lee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89080" y="230976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&amp;D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7D9-13AE-45D4-93AE-151A9DE5515F}" type="slidenum">
              <a:t>26</a:t>
            </a:fld>
          </a:p>
        </p:txBody>
      </p:sp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028880" y="1935000"/>
            <a:ext cx="7726320" cy="787680"/>
          </a:xfrm>
          <a:custGeom>
            <a:avLst/>
            <a:gdLst>
              <a:gd name="textAreaLeft" fmla="*/ 0 w 7726320"/>
              <a:gd name="textAreaRight" fmla="*/ 7726680 w 772632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4360" y="1743120"/>
            <a:ext cx="792000" cy="1116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15920" y="3078000"/>
            <a:ext cx="7726320" cy="787680"/>
          </a:xfrm>
          <a:custGeom>
            <a:avLst/>
            <a:gdLst>
              <a:gd name="textAreaLeft" fmla="*/ 0 w 7726320"/>
              <a:gd name="textAreaRight" fmla="*/ 7726680 w 772632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03320" y="4284720"/>
            <a:ext cx="7726320" cy="787320"/>
          </a:xfrm>
          <a:custGeom>
            <a:avLst/>
            <a:gdLst>
              <a:gd name="textAreaLeft" fmla="*/ 0 w 7726320"/>
              <a:gd name="textAreaRight" fmla="*/ 7726680 w 772632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72600" y="201240"/>
            <a:ext cx="823140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600" spc="-1" strike="noStrike">
                <a:solidFill>
                  <a:srgbClr val="3a0e66"/>
                </a:solidFill>
                <a:latin typeface="Minion"/>
              </a:rPr>
              <a:t>Why?  Synergies of (Platform) Re-Use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396360" y="2135160"/>
            <a:ext cx="9018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4360" y="2898720"/>
            <a:ext cx="792000" cy="1116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58200" y="3279960"/>
            <a:ext cx="914400" cy="3294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14360" y="4054320"/>
            <a:ext cx="792000" cy="1181160"/>
          </a:xfrm>
          <a:custGeom>
            <a:avLst/>
            <a:gdLst>
              <a:gd name="textAreaLeft" fmla="*/ 0 w 792000"/>
              <a:gd name="textAreaRight" fmla="*/ 792360 w 79200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306720" y="4475880"/>
            <a:ext cx="973080" cy="3294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74720" y="1731960"/>
            <a:ext cx="914400" cy="435600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655640" y="528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566360" y="5381640"/>
            <a:ext cx="112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re-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81360" y="2903400"/>
            <a:ext cx="914400" cy="32133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62280" y="528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42400" y="5372280"/>
            <a:ext cx="119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knowl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re-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723080" y="4092480"/>
            <a:ext cx="914400" cy="199080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704000" y="5276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533000" y="5329080"/>
            <a:ext cx="129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utiliz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697280" y="2890800"/>
            <a:ext cx="914400" cy="3225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78200" y="528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98640" y="5372280"/>
            <a:ext cx="111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compo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re-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713560" y="2890800"/>
            <a:ext cx="914400" cy="3225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564880" y="5357880"/>
            <a:ext cx="114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tool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re-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671920" y="1733400"/>
            <a:ext cx="914400" cy="43833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652840" y="52736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72280" y="2075040"/>
            <a:ext cx="94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of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29480" y="2903400"/>
            <a:ext cx="914400" cy="31845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10400" y="528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518520" y="5353200"/>
            <a:ext cx="133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produc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658240" y="5392800"/>
            <a:ext cx="97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</a:rPr>
              <a:t>re-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655280" y="2075040"/>
            <a:ext cx="99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Inno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71840" y="3195720"/>
            <a:ext cx="13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b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prac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523400" y="4325760"/>
            <a:ext cx="127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purch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05920" y="3071880"/>
            <a:ext cx="114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repea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46960" y="319572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sha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687560" y="3059280"/>
            <a:ext cx="96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integ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499160" y="4325760"/>
            <a:ext cx="13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fe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20800" y="4325760"/>
            <a:ext cx="125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avoi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49400" y="4325760"/>
            <a:ext cx="122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re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infrast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605280" y="4313160"/>
            <a:ext cx="114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cop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577880" y="3281400"/>
            <a:ext cx="116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no rei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734480" y="4335480"/>
            <a:ext cx="82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45640" y="3281400"/>
            <a:ext cx="98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stan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ardi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712600" y="4335480"/>
            <a:ext cx="82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13560" y="528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C13-5825-4D0E-BFB9-1AB3B6757CD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42560" y="50760"/>
            <a:ext cx="8931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How can one organize R&amp;D: Three Possible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50720" y="1760400"/>
            <a:ext cx="1198800" cy="642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746360" y="1760400"/>
            <a:ext cx="1198440" cy="642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Proces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Tools &amp; Me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16080" y="1760400"/>
            <a:ext cx="709920" cy="642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425920" y="1760400"/>
            <a:ext cx="1198800" cy="642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28960" y="1760400"/>
            <a:ext cx="708120" cy="642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26000" y="1760400"/>
            <a:ext cx="709560" cy="642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S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689880" y="1760400"/>
            <a:ext cx="888840" cy="642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-336960" y="121428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inion"/>
              </a:rPr>
              <a:t>1. Totally Competence Center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061480" y="1760400"/>
            <a:ext cx="888840" cy="6429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T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3680" y="3322800"/>
            <a:ext cx="1198440" cy="64260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758960" y="3322800"/>
            <a:ext cx="1198440" cy="64260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Proces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Tools &amp; Me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029040" y="3322800"/>
            <a:ext cx="709560" cy="64260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81600" y="3322800"/>
            <a:ext cx="1198800" cy="64260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41920" y="3322800"/>
            <a:ext cx="707760" cy="64260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045200" y="3322800"/>
            <a:ext cx="889200" cy="64260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7840" y="2738520"/>
            <a:ext cx="87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inion"/>
              </a:rPr>
              <a:t>2. Competence Center Based except SW (is multiplied per platfo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074080" y="3322800"/>
            <a:ext cx="888840" cy="6426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T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968720" y="3525840"/>
            <a:ext cx="709920" cy="642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S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03840" y="3411360"/>
            <a:ext cx="709560" cy="64296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S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638600" y="3322800"/>
            <a:ext cx="709560" cy="642600"/>
          </a:xfrm>
          <a:prstGeom prst="rect">
            <a:avLst/>
          </a:prstGeom>
          <a:solidFill>
            <a:srgbClr val="e3e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S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7840" y="4389480"/>
            <a:ext cx="88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inion"/>
              </a:rPr>
              <a:t>3. Platform / R&amp;D center oriented with central concep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5400000">
            <a:off x="1102320" y="5421960"/>
            <a:ext cx="1741320" cy="9525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1" y="0"/>
                </a:lnTo>
                <a:lnTo>
                  <a:pt x="21600" y="10800"/>
                </a:lnTo>
                <a:lnTo>
                  <a:pt x="196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5400000">
            <a:off x="2368440" y="5535360"/>
            <a:ext cx="1514520" cy="95256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1" y="0"/>
                </a:lnTo>
                <a:lnTo>
                  <a:pt x="21600" y="10800"/>
                </a:lnTo>
                <a:lnTo>
                  <a:pt x="196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5400000">
            <a:off x="3625200" y="5640120"/>
            <a:ext cx="1308240" cy="94932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1" y="0"/>
                </a:lnTo>
                <a:lnTo>
                  <a:pt x="21600" y="10800"/>
                </a:lnTo>
                <a:lnTo>
                  <a:pt x="196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5400000">
            <a:off x="4874040" y="5733360"/>
            <a:ext cx="1119240" cy="95220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1" y="0"/>
                </a:lnTo>
                <a:lnTo>
                  <a:pt x="21600" y="10800"/>
                </a:lnTo>
                <a:lnTo>
                  <a:pt x="196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00320" y="5808600"/>
            <a:ext cx="5991120" cy="351000"/>
          </a:xfrm>
          <a:custGeom>
            <a:avLst/>
            <a:gdLst>
              <a:gd name="textAreaLeft" fmla="*/ 0 w 5991120"/>
              <a:gd name="textAreaRight" fmla="*/ 5991480 w 599112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R&amp;D Center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300320" y="6562800"/>
            <a:ext cx="5991120" cy="133200"/>
          </a:xfrm>
          <a:custGeom>
            <a:avLst/>
            <a:gdLst>
              <a:gd name="textAreaLeft" fmla="*/ 0 w 5991120"/>
              <a:gd name="textAreaRight" fmla="*/ 5991480 w 599112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33360" y="5780160"/>
            <a:ext cx="888840" cy="834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"/>
              </a:rPr>
              <a:t>T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451880" y="502452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文鼎中黑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文鼎中黑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569320" y="520236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文鼎中黑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文鼎中黑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312920" y="6189840"/>
            <a:ext cx="5991120" cy="350640"/>
          </a:xfrm>
          <a:custGeom>
            <a:avLst/>
            <a:gdLst>
              <a:gd name="textAreaLeft" fmla="*/ 0 w 5991120"/>
              <a:gd name="textAreaRight" fmla="*/ 5991480 w 599112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R&amp;D Center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2560" y="129960"/>
            <a:ext cx="900108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&amp;D Center oriented R&amp;D Operations, with global alignment fun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5400000">
            <a:off x="-250200" y="3375720"/>
            <a:ext cx="5227920" cy="1121040"/>
          </a:xfrm>
          <a:custGeom>
            <a:avLst/>
            <a:gdLst>
              <a:gd name="textAreaLeft" fmla="*/ 0 w 5227920"/>
              <a:gd name="textAreaRight" fmla="*/ 5228280 w 5227920"/>
              <a:gd name="textAreaTop" fmla="*/ 0 h 1121040"/>
              <a:gd name="textAreaBottom" fmla="*/ 112140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1" y="0"/>
                </a:lnTo>
                <a:lnTo>
                  <a:pt x="21600" y="10800"/>
                </a:lnTo>
                <a:lnTo>
                  <a:pt x="196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71760" y="3930480"/>
            <a:ext cx="7056360" cy="9543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954360"/>
              <a:gd name="textAreaBottom" fmla="*/ 954720 h 95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71760" y="49719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059280" y="1378080"/>
            <a:ext cx="605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On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Minion"/>
              </a:rPr>
              <a:t>System Concept Group</a:t>
            </a: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 is responsible for c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platform design, software principles and 3rd party SW integra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26320" y="3909960"/>
            <a:ext cx="767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Research center I based on first platform (e.g. IFX / Apox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responsible for whole program around the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having own resources for prog.mgmt, HW, S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567440" y="4950000"/>
            <a:ext cx="51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 Unicode MS"/>
              </a:rPr>
              <a:t>Research center II (e.g. Qualcomm / Br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71760" y="54291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621440" y="5383080"/>
            <a:ext cx="49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Research center III (e.g. TI / TTP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571760" y="58863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595160" y="5921280"/>
            <a:ext cx="236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xxx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3360" y="3129120"/>
            <a:ext cx="1508400" cy="3753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responsible for project execution excel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(= TTM, TT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946080" y="1322280"/>
            <a:ext cx="1995480" cy="1176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Minion"/>
              </a:rPr>
              <a:t>Process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Minion"/>
              </a:rPr>
              <a:t>Tools &amp; 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Minion"/>
              </a:rPr>
              <a:t>Methodolog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Arial Unicode MS"/>
              </a:rPr>
              <a:t>Feedback 1st All-Hands Meet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A44-B5E0-436C-B3DA-9672AEB5B62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2560" y="129960"/>
            <a:ext cx="900108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&amp;D Center oriented R&amp;D Operations, with global alignment fun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rot="5400000">
            <a:off x="1357920" y="3625920"/>
            <a:ext cx="4727880" cy="1120680"/>
          </a:xfrm>
          <a:custGeom>
            <a:avLst/>
            <a:gdLst>
              <a:gd name="textAreaLeft" fmla="*/ 0 w 4727880"/>
              <a:gd name="textAreaRight" fmla="*/ 4728240 w 4727880"/>
              <a:gd name="textAreaTop" fmla="*/ 0 h 1120680"/>
              <a:gd name="textAreaBottom" fmla="*/ 1121040 h 11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1" y="0"/>
                </a:lnTo>
                <a:lnTo>
                  <a:pt x="21600" y="10800"/>
                </a:lnTo>
                <a:lnTo>
                  <a:pt x="196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71760" y="3930480"/>
            <a:ext cx="7056360" cy="9543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954360"/>
              <a:gd name="textAreaBottom" fmla="*/ 954720 h 95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571760" y="49719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29040" y="946080"/>
            <a:ext cx="728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On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System Concept Group</a:t>
            </a: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 is responsible for c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platform design, software principles and 3rd 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SW integra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328040" y="4067280"/>
            <a:ext cx="541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I based on first platform (e.g. IFX / Apox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ponsible for whole program around the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having own resources for prog.mgmt, HW, 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218960" y="5006880"/>
            <a:ext cx="63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II based on second platform (e.g. Qualcomm / Bre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71760" y="54291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344600" y="5464080"/>
            <a:ext cx="54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based on third platform (e.g. TI / TTPc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571760" y="58863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595160" y="5921280"/>
            <a:ext cx="236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xxx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360" y="4005360"/>
            <a:ext cx="1403640" cy="2225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T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ponsible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project execution excel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(= TTM, TT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749600" y="1851120"/>
            <a:ext cx="2539800" cy="15462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Unicode MS"/>
              </a:rPr>
              <a:t>System Concepts 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Arial Unicode MS"/>
              </a:rPr>
              <a:t>SW Architec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ffffff"/>
                </a:solidFill>
                <a:latin typeface="Arial Unicode MS"/>
              </a:rPr>
              <a:t>3rd par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Unicode MS"/>
              </a:rPr>
              <a:t>integ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ffffff"/>
                </a:solidFill>
                <a:latin typeface="Arial Unicode MS"/>
              </a:rPr>
              <a:t>Pre-developm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 rot="5400000">
            <a:off x="2903760" y="3863160"/>
            <a:ext cx="4278240" cy="1120680"/>
          </a:xfrm>
          <a:custGeom>
            <a:avLst/>
            <a:gdLst>
              <a:gd name="textAreaLeft" fmla="*/ 0 w 4278240"/>
              <a:gd name="textAreaRight" fmla="*/ 4278600 w 4278240"/>
              <a:gd name="textAreaTop" fmla="*/ 0 h 1120680"/>
              <a:gd name="textAreaBottom" fmla="*/ 1121040 h 11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1" y="0"/>
                </a:lnTo>
                <a:lnTo>
                  <a:pt x="21600" y="10800"/>
                </a:lnTo>
                <a:lnTo>
                  <a:pt x="196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42560" y="129960"/>
            <a:ext cx="900108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&amp;D Center oriented R&amp;D Operations, with global alignment fun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3930480"/>
            <a:ext cx="7056360" cy="9543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954360"/>
              <a:gd name="textAreaBottom" fmla="*/ 954720 h 95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571760" y="49719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328040" y="4067280"/>
            <a:ext cx="541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I based on first platform (e.g. IFX / Apox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ponsible for whole program around the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having own resources for prog.mgmt, HW, 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218960" y="5006880"/>
            <a:ext cx="63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II based on second platform (e.g. Qualcomm / Bre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571760" y="54291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344600" y="5464080"/>
            <a:ext cx="54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based on third platform (e.g. TI / TTPc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571760" y="58863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360" y="4005360"/>
            <a:ext cx="1403640" cy="2225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T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ponsible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project execution excel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(= TTM, TT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333600" y="2093760"/>
            <a:ext cx="2293920" cy="1825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Minion"/>
              </a:rPr>
              <a:t>Industrializ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ffffff"/>
                </a:solidFill>
                <a:latin typeface="Minion"/>
              </a:rPr>
              <a:t>Mech Design, Layout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ffffff"/>
                </a:solidFill>
                <a:latin typeface="Minion"/>
              </a:rPr>
              <a:t>Stack-up conc.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ffffff"/>
                </a:solidFill>
                <a:latin typeface="Minion"/>
              </a:rPr>
              <a:t>Assembly concept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ffffff"/>
                </a:solidFill>
                <a:latin typeface="Minion"/>
              </a:rPr>
              <a:t>Produ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ffffff"/>
                </a:solidFill>
                <a:latin typeface="Minion"/>
              </a:rPr>
              <a:t>interfa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324240" y="1177920"/>
            <a:ext cx="57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On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Industrialization Group</a:t>
            </a: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 is responsible for all mechanical design, and the successful preparation for mass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42560" y="129960"/>
            <a:ext cx="900108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&amp;D Center oriented R&amp;D Operations, with global alignment fun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rot="5400000">
            <a:off x="4542120" y="4206240"/>
            <a:ext cx="3567240" cy="1120680"/>
          </a:xfrm>
          <a:custGeom>
            <a:avLst/>
            <a:gdLst>
              <a:gd name="textAreaLeft" fmla="*/ 0 w 3567240"/>
              <a:gd name="textAreaRight" fmla="*/ 3567600 w 3567240"/>
              <a:gd name="textAreaTop" fmla="*/ 0 h 1120680"/>
              <a:gd name="textAreaBottom" fmla="*/ 1121040 h 11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1" y="0"/>
                </a:lnTo>
                <a:lnTo>
                  <a:pt x="21600" y="10800"/>
                </a:lnTo>
                <a:lnTo>
                  <a:pt x="196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5400000">
            <a:off x="6057360" y="4464000"/>
            <a:ext cx="3051360" cy="1120680"/>
          </a:xfrm>
          <a:custGeom>
            <a:avLst/>
            <a:gdLst>
              <a:gd name="textAreaLeft" fmla="*/ 0 w 3051360"/>
              <a:gd name="textAreaRight" fmla="*/ 3051720 w 3051360"/>
              <a:gd name="textAreaTop" fmla="*/ 0 h 1120680"/>
              <a:gd name="textAreaBottom" fmla="*/ 1121040 h 11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1" y="0"/>
                </a:lnTo>
                <a:lnTo>
                  <a:pt x="21600" y="10800"/>
                </a:lnTo>
                <a:lnTo>
                  <a:pt x="196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571760" y="3930480"/>
            <a:ext cx="7056360" cy="9543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954360"/>
              <a:gd name="textAreaBottom" fmla="*/ 954720 h 95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571760" y="49719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89080" y="2028960"/>
            <a:ext cx="607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System Test Groups</a:t>
            </a: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 are th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for all product lines, and guarantee c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quality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970680" y="286380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On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Minion"/>
              </a:rPr>
              <a:t>VAS Group</a:t>
            </a:r>
            <a:r>
              <a:rPr b="1" lang="de-DE" sz="2000" spc="-1" strike="noStrike">
                <a:solidFill>
                  <a:srgbClr val="000000"/>
                </a:solidFill>
                <a:latin typeface="Minion"/>
              </a:rPr>
              <a:t> for all accesso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328040" y="4067280"/>
            <a:ext cx="541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I based on first platform (e.g. IFX / Apox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ponsible for whole program around the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having own resources for prog.mgmt, HW, 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218960" y="5006880"/>
            <a:ext cx="63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II based on second platform (e.g. Qualcomm / Bre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71760" y="54291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344600" y="5464080"/>
            <a:ext cx="54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earch center based on third platform (e.g. TI / TTPc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571760" y="5886360"/>
            <a:ext cx="7056360" cy="36216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9" y="0"/>
                </a:lnTo>
                <a:lnTo>
                  <a:pt x="21600" y="10800"/>
                </a:lnTo>
                <a:lnTo>
                  <a:pt x="197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3360" y="4005360"/>
            <a:ext cx="1403640" cy="2225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T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responsible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project execution excel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</a:rPr>
              <a:t>(= TTM, TT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803920" y="3079800"/>
            <a:ext cx="1017720" cy="6490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Minion"/>
              </a:rPr>
              <a:t>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Minion"/>
              </a:rPr>
              <a:t>Tes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112160" y="3537000"/>
            <a:ext cx="939600" cy="3016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Minion"/>
              </a:rPr>
              <a:t>V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96560" y="295200"/>
            <a:ext cx="89470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oes this mean for R&amp;D organization char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119160" y="1409760"/>
            <a:ext cx="807840" cy="5387760"/>
            <a:chOff x="119160" y="1409760"/>
            <a:chExt cx="807840" cy="5387760"/>
          </a:xfrm>
        </p:grpSpPr>
        <p:sp>
          <p:nvSpPr>
            <p:cNvPr id="845" name=""/>
            <p:cNvSpPr/>
            <p:nvPr/>
          </p:nvSpPr>
          <p:spPr>
            <a:xfrm>
              <a:off x="119160" y="1409760"/>
              <a:ext cx="807840" cy="538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6120" y="1476360"/>
              <a:ext cx="72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TP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848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81000" y="1405080"/>
            <a:ext cx="62978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176560" y="5676840"/>
            <a:ext cx="5079960" cy="33516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112760" y="2235240"/>
            <a:ext cx="5491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159200" y="14698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 flipV="1">
            <a:off x="1112760" y="2236680"/>
            <a:ext cx="28800" cy="444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1131480" y="5812920"/>
            <a:ext cx="204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 flipV="1">
            <a:off x="1133640" y="6279840"/>
            <a:ext cx="204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 flipV="1">
            <a:off x="1134720" y="474300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 flipV="1">
            <a:off x="1137960" y="528120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130040" y="668304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233360" y="5549760"/>
            <a:ext cx="117324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Process, Tools,</a:t>
            </a:r>
            <a:br>
              <a:rPr sz="1700"/>
            </a:b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Methodo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193840" y="604368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205000" y="464184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05000" y="52531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205000" y="635328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235160" y="6053040"/>
            <a:ext cx="1173240" cy="45252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Sys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Concepts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236600" y="4473720"/>
            <a:ext cx="1173240" cy="53172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Industria-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liza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239840" y="5072040"/>
            <a:ext cx="1173240" cy="39060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System Te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&amp; Approv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231920" y="6585120"/>
            <a:ext cx="1173240" cy="28080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V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4804920" y="1739880"/>
            <a:ext cx="972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308448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rot="5400000">
            <a:off x="821160" y="4002840"/>
            <a:ext cx="4449960" cy="111744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rot="5400000">
            <a:off x="3175200" y="4004280"/>
            <a:ext cx="4462200" cy="112428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523960" y="2378160"/>
            <a:ext cx="103356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100" spc="-1" strike="noStrike">
                <a:solidFill>
                  <a:srgbClr val="3a0e66"/>
                </a:solidFill>
                <a:latin typeface="Minion"/>
              </a:rPr>
              <a:t>MUC</a:t>
            </a:r>
            <a:br>
              <a:rPr sz="1300"/>
            </a:b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MA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W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rot="5400000">
            <a:off x="1998360" y="4002120"/>
            <a:ext cx="4451400" cy="111744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422280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706920" y="2378160"/>
            <a:ext cx="103320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KL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W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A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rot="5400000">
            <a:off x="4371480" y="4002120"/>
            <a:ext cx="4445280" cy="112392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6602400" y="224316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5400720" y="225108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7212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TA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HSI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SU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 flipV="1">
            <a:off x="2755440" y="3157200"/>
            <a:ext cx="972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 flipV="1" rot="10800000">
            <a:off x="2880360" y="375480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 flipV="1" rot="10800000">
            <a:off x="2890800" y="4199040"/>
            <a:ext cx="571680" cy="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100" spc="-1" strike="noStrike">
                <a:solidFill>
                  <a:srgbClr val="3a0e66"/>
                </a:solidFill>
                <a:latin typeface="Minion"/>
              </a:rPr>
              <a:t>S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2771280" y="424656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2765520" y="3807000"/>
            <a:ext cx="11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2765520" y="3355200"/>
            <a:ext cx="110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 flipV="1" rot="10800000">
            <a:off x="2884320" y="3228840"/>
            <a:ext cx="5716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Prog.</a:t>
            </a:r>
            <a:br>
              <a:rPr sz="1700"/>
            </a:b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Mg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 flipV="1">
            <a:off x="3844440" y="3155760"/>
            <a:ext cx="17640" cy="108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 flipV="1" rot="10800000">
            <a:off x="3969360" y="361368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 flipV="1" rot="10800000">
            <a:off x="3979800" y="4056480"/>
            <a:ext cx="57168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S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 flipV="1" rot="10800000">
            <a:off x="3979800" y="4761360"/>
            <a:ext cx="57168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3860280" y="424512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3854520" y="3804480"/>
            <a:ext cx="109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3854520" y="3354480"/>
            <a:ext cx="109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 flipV="1" rot="10800000">
            <a:off x="3972600" y="3164040"/>
            <a:ext cx="571320" cy="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Prog.</a:t>
            </a:r>
            <a:br>
              <a:rPr sz="1300"/>
            </a:b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Mg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5021280" y="3164040"/>
            <a:ext cx="0" cy="14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 flipV="1" rot="10800000">
            <a:off x="5146560" y="3623040"/>
            <a:ext cx="5716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 flipV="1" rot="10800000">
            <a:off x="5155200" y="4066200"/>
            <a:ext cx="57132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S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 flipV="1" rot="10800000">
            <a:off x="5155200" y="456768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5035320" y="4253760"/>
            <a:ext cx="112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5028840" y="381492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5028840" y="336240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 flipV="1" rot="10800000">
            <a:off x="5149800" y="3172320"/>
            <a:ext cx="57168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Prog.</a:t>
            </a:r>
            <a:br>
              <a:rPr sz="1300"/>
            </a:b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Mg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137280" y="3171960"/>
            <a:ext cx="0" cy="139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 flipV="1" rot="10800000">
            <a:off x="6262560" y="3630960"/>
            <a:ext cx="5716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 flipV="1" rot="10800000">
            <a:off x="6271200" y="407556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S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 flipV="1" rot="10800000">
            <a:off x="6271200" y="457416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6152760" y="426420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6146280" y="3822840"/>
            <a:ext cx="109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6146280" y="3370320"/>
            <a:ext cx="109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 flipV="1" rot="10800000">
            <a:off x="6265800" y="3179880"/>
            <a:ext cx="571680" cy="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Prog.</a:t>
            </a:r>
            <a:br>
              <a:rPr sz="1300"/>
            </a:b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Mg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88808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BEJ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SH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495600" y="1496880"/>
            <a:ext cx="2546280" cy="6001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Siegfried Bocione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 Dr. Yungchia Lee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049400" y="22874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R&amp;D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872800" y="3740040"/>
            <a:ext cx="598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H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947040" y="3614760"/>
            <a:ext cx="627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H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28200" y="3614760"/>
            <a:ext cx="627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H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246000" y="3627360"/>
            <a:ext cx="627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H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 flipV="1" rot="10800000">
            <a:off x="2426040" y="4789440"/>
            <a:ext cx="4395960" cy="3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692440" y="4842000"/>
            <a:ext cx="1854000" cy="25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900160" y="4813200"/>
            <a:ext cx="171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MD &amp; LPD: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862160" y="4813200"/>
            <a:ext cx="19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Industr. &amp; Innov.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863960" y="4842000"/>
            <a:ext cx="1854360" cy="25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 flipV="1" rot="10800000">
            <a:off x="5168880" y="4497840"/>
            <a:ext cx="57168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900" spc="-1" strike="noStrike">
                <a:solidFill>
                  <a:srgbClr val="3a0e66"/>
                </a:solidFill>
                <a:latin typeface="Minion"/>
              </a:rPr>
              <a:t>M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flipV="1" rot="10800000">
            <a:off x="6273720" y="4485240"/>
            <a:ext cx="57168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M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92440" y="5273640"/>
            <a:ext cx="1854000" cy="25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92960" y="521172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inion"/>
              </a:rPr>
              <a:t>ST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876920" y="5273640"/>
            <a:ext cx="1854000" cy="25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358960" y="521172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inion"/>
              </a:rPr>
              <a:t>ST A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4432320"/>
            <a:ext cx="734076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5022360" y="4545720"/>
            <a:ext cx="112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6140160" y="4545720"/>
            <a:ext cx="112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6560" y="295200"/>
            <a:ext cx="89470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oes this mean for the platform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19160" y="1409760"/>
            <a:ext cx="807840" cy="5387760"/>
            <a:chOff x="119160" y="1409760"/>
            <a:chExt cx="807840" cy="5387760"/>
          </a:xfrm>
        </p:grpSpPr>
        <p:sp>
          <p:nvSpPr>
            <p:cNvPr id="939" name=""/>
            <p:cNvSpPr/>
            <p:nvPr/>
          </p:nvSpPr>
          <p:spPr>
            <a:xfrm>
              <a:off x="119160" y="1409760"/>
              <a:ext cx="807840" cy="538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6120" y="1476360"/>
              <a:ext cx="72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TP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942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981000" y="1405080"/>
            <a:ext cx="62978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176560" y="5676840"/>
            <a:ext cx="5079960" cy="33516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1112760" y="2235240"/>
            <a:ext cx="5491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159200" y="14698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1112760" y="2236680"/>
            <a:ext cx="28800" cy="444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 flipV="1">
            <a:off x="1131480" y="5812920"/>
            <a:ext cx="204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1133640" y="6279840"/>
            <a:ext cx="204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 flipV="1">
            <a:off x="1134720" y="474300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 flipV="1">
            <a:off x="1137960" y="528120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 flipV="1">
            <a:off x="1130040" y="668304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233360" y="5549760"/>
            <a:ext cx="117324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Process, Tools,</a:t>
            </a:r>
            <a:br>
              <a:rPr sz="1700"/>
            </a:b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Methodo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193840" y="604368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05000" y="464184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205000" y="52531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205000" y="635328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235160" y="6053040"/>
            <a:ext cx="1173240" cy="45252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Sys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Concepts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236600" y="4473720"/>
            <a:ext cx="1173240" cy="53172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Industria-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liza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239840" y="5072040"/>
            <a:ext cx="1173240" cy="39060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System Te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&amp; Approv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231920" y="6585120"/>
            <a:ext cx="1173240" cy="280800"/>
          </a:xfrm>
          <a:prstGeom prst="rect">
            <a:avLst/>
          </a:prstGeom>
          <a:solidFill>
            <a:srgbClr val="cc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V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4804920" y="1739880"/>
            <a:ext cx="972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308448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5400000">
            <a:off x="821160" y="4002840"/>
            <a:ext cx="4449960" cy="111744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rot="5400000">
            <a:off x="3175200" y="4004280"/>
            <a:ext cx="4462200" cy="112428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523960" y="2378160"/>
            <a:ext cx="103356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100" spc="-1" strike="noStrike">
                <a:solidFill>
                  <a:srgbClr val="3a0e66"/>
                </a:solidFill>
                <a:latin typeface="Minion"/>
              </a:rPr>
              <a:t>MUC</a:t>
            </a:r>
            <a:br>
              <a:rPr sz="1300"/>
            </a:b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MA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W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rot="5400000">
            <a:off x="1998360" y="4002120"/>
            <a:ext cx="4451400" cy="111744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422280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706920" y="2378160"/>
            <a:ext cx="103320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KL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W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A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rot="5400000">
            <a:off x="4371480" y="4002120"/>
            <a:ext cx="4445280" cy="112392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602400" y="224316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400720" y="225108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07212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TA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HSI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SU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2755440" y="3157200"/>
            <a:ext cx="9720" cy="10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 flipV="1" rot="10800000">
            <a:off x="2880360" y="375480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 flipV="1" rot="10800000">
            <a:off x="2890800" y="4199040"/>
            <a:ext cx="571680" cy="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100" spc="-1" strike="noStrike">
                <a:solidFill>
                  <a:srgbClr val="3a0e66"/>
                </a:solidFill>
                <a:latin typeface="Minion"/>
              </a:rPr>
              <a:t>S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2771280" y="424656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2765520" y="3807000"/>
            <a:ext cx="11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2765520" y="3355200"/>
            <a:ext cx="110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 flipV="1" rot="10800000">
            <a:off x="2884320" y="3228840"/>
            <a:ext cx="5716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Prog.</a:t>
            </a:r>
            <a:br>
              <a:rPr sz="1700"/>
            </a:b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Mg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3844440" y="3155760"/>
            <a:ext cx="17640" cy="108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 flipV="1" rot="10800000">
            <a:off x="3969360" y="361368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 flipV="1" rot="10800000">
            <a:off x="3979800" y="4056480"/>
            <a:ext cx="57168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S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 rot="10800000">
            <a:off x="3979800" y="4761360"/>
            <a:ext cx="57168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3860280" y="424512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3854520" y="3804480"/>
            <a:ext cx="109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3854520" y="3354480"/>
            <a:ext cx="109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 flipV="1" rot="10800000">
            <a:off x="3972600" y="3164040"/>
            <a:ext cx="571320" cy="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Prog.</a:t>
            </a:r>
            <a:br>
              <a:rPr sz="1300"/>
            </a:b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Mg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5021280" y="3164040"/>
            <a:ext cx="0" cy="14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 flipV="1" rot="10800000">
            <a:off x="5146560" y="3623040"/>
            <a:ext cx="5716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 rot="10800000">
            <a:off x="5155200" y="4066200"/>
            <a:ext cx="57132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S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 rot="10800000">
            <a:off x="5155200" y="456768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5035320" y="4253760"/>
            <a:ext cx="112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5028840" y="381492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5028840" y="336240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 flipV="1" rot="10800000">
            <a:off x="5149800" y="3172320"/>
            <a:ext cx="57168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Prog.</a:t>
            </a:r>
            <a:br>
              <a:rPr sz="1300"/>
            </a:b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Mg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6137280" y="3171960"/>
            <a:ext cx="0" cy="139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 flipV="1" rot="10800000">
            <a:off x="6262560" y="3630960"/>
            <a:ext cx="5716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 rot="10800000">
            <a:off x="6271200" y="407556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S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 flipV="1" rot="10800000">
            <a:off x="6271200" y="4574160"/>
            <a:ext cx="57132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6152760" y="4264200"/>
            <a:ext cx="11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146280" y="3822840"/>
            <a:ext cx="109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6146280" y="3370320"/>
            <a:ext cx="109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 flipV="1" rot="10800000">
            <a:off x="6265800" y="3179880"/>
            <a:ext cx="571680" cy="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Prog.</a:t>
            </a:r>
            <a:br>
              <a:rPr sz="1300"/>
            </a:b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Mg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88808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BEJ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900" spc="-1" strike="noStrike">
                <a:solidFill>
                  <a:srgbClr val="3a0e66"/>
                </a:solidFill>
                <a:latin typeface="Minion"/>
              </a:rPr>
              <a:t>SH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495600" y="1496880"/>
            <a:ext cx="2546280" cy="6001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Siegfried Bocione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 Dr. Yungchia Lee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049400" y="22874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R&amp;D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72800" y="3740040"/>
            <a:ext cx="598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</a:rPr>
              <a:t>H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947040" y="3614760"/>
            <a:ext cx="627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H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28200" y="3614760"/>
            <a:ext cx="627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H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246000" y="3627360"/>
            <a:ext cx="627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H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 flipV="1" rot="10800000">
            <a:off x="2426040" y="4789440"/>
            <a:ext cx="4395960" cy="3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692440" y="4842000"/>
            <a:ext cx="1854000" cy="25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900160" y="4813200"/>
            <a:ext cx="171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MD &amp; LPD: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862160" y="4813200"/>
            <a:ext cx="19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Industr. &amp; Innov.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863960" y="4842000"/>
            <a:ext cx="1854360" cy="25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 flipV="1" rot="10800000">
            <a:off x="5168880" y="4497840"/>
            <a:ext cx="57168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900" spc="-1" strike="noStrike">
                <a:solidFill>
                  <a:srgbClr val="3a0e66"/>
                </a:solidFill>
                <a:latin typeface="Minion"/>
              </a:rPr>
              <a:t>M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 flipV="1" rot="10800000">
            <a:off x="6273720" y="4485240"/>
            <a:ext cx="57168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100" spc="-1" strike="noStrike">
                <a:solidFill>
                  <a:srgbClr val="3a0e66"/>
                </a:solidFill>
                <a:latin typeface="Minion"/>
              </a:rPr>
              <a:t>M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692440" y="5273640"/>
            <a:ext cx="1854000" cy="25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892960" y="521172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inion"/>
              </a:rPr>
              <a:t>ST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876920" y="5273640"/>
            <a:ext cx="1854000" cy="25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358960" y="521172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inion"/>
              </a:rPr>
              <a:t>ST A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4432320"/>
            <a:ext cx="734076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5022360" y="4545720"/>
            <a:ext cx="112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6140160" y="4545720"/>
            <a:ext cx="112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405160" y="3156120"/>
            <a:ext cx="1152360" cy="141912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1419120"/>
              <a:gd name="textAreaBottom" fmla="*/ 1362960 h 1419120"/>
            </a:gdLst>
            <a:ahLst/>
            <a:rect l="textAreaLeft" t="textAreaTop" r="textAreaRight" b="textAreaBottom"/>
            <a:pathLst>
              <a:path w="21600" h="26599">
                <a:moveTo>
                  <a:pt x="3600" y="0"/>
                </a:moveTo>
                <a:arcTo wR="3600" hR="3600" stAng="16200000" swAng="-5400000"/>
                <a:lnTo>
                  <a:pt x="0" y="22999"/>
                </a:lnTo>
                <a:arcTo wR="3600" hR="3600" stAng="10800000" swAng="-5400000"/>
                <a:lnTo>
                  <a:pt x="18000" y="26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QUAL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COM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Br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649680" y="3156120"/>
            <a:ext cx="1152360" cy="141912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1419120"/>
              <a:gd name="textAreaBottom" fmla="*/ 1362960 h 1419120"/>
            </a:gdLst>
            <a:ahLst/>
            <a:rect l="textAreaLeft" t="textAreaTop" r="textAreaRight" b="textAreaBottom"/>
            <a:pathLst>
              <a:path w="21600" h="26599">
                <a:moveTo>
                  <a:pt x="3600" y="0"/>
                </a:moveTo>
                <a:arcTo wR="3600" hR="3600" stAng="16200000" swAng="-5400000"/>
                <a:lnTo>
                  <a:pt x="0" y="22999"/>
                </a:lnTo>
                <a:arcTo wR="3600" hR="3600" stAng="10800000" swAng="-5400000"/>
                <a:lnTo>
                  <a:pt x="18000" y="26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SGol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Apox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43440" y="3156120"/>
            <a:ext cx="1152720" cy="14191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19120"/>
              <a:gd name="textAreaBottom" fmla="*/ 1362960 h 1419120"/>
            </a:gdLst>
            <a:ahLst/>
            <a:rect l="textAreaLeft" t="textAreaTop" r="textAreaRight" b="textAreaBottom"/>
            <a:pathLst>
              <a:path w="21600" h="26590">
                <a:moveTo>
                  <a:pt x="3600" y="0"/>
                </a:moveTo>
                <a:arcTo wR="3600" hR="3600" stAng="16200000" swAng="-5400000"/>
                <a:lnTo>
                  <a:pt x="0" y="22990"/>
                </a:lnTo>
                <a:arcTo wR="3600" hR="3600" stAng="10800000" swAng="-5400000"/>
                <a:lnTo>
                  <a:pt x="18000" y="265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eGol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Apox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24600" y="3156120"/>
            <a:ext cx="1152360" cy="141912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1419120"/>
              <a:gd name="textAreaBottom" fmla="*/ 1362960 h 1419120"/>
            </a:gdLst>
            <a:ahLst/>
            <a:rect l="textAreaLeft" t="textAreaTop" r="textAreaRight" b="textAreaBottom"/>
            <a:pathLst>
              <a:path w="21600" h="26599">
                <a:moveTo>
                  <a:pt x="3600" y="0"/>
                </a:moveTo>
                <a:arcTo wR="3600" hR="3600" stAng="16200000" swAng="-5400000"/>
                <a:lnTo>
                  <a:pt x="0" y="22999"/>
                </a:lnTo>
                <a:arcTo wR="3600" hR="3600" stAng="10800000" swAng="-5400000"/>
                <a:lnTo>
                  <a:pt x="18000" y="26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QUAL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COM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T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42920" y="220320"/>
            <a:ext cx="823104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920520"/>
            <a:ext cx="4038480" cy="58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SB &amp; YC completing communications plan (next week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SB &amp; YC drafting org. announcement (next 8 day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Worldwide org announcement: EO Apri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egular meeting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R&amp;D Mgmt team (weekly); combined in 4-6 weeks; SB &amp; YC participating in about 2 week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OPC board (bi-weekly): Holger, Pat, Marcel to set up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R&amp;D functional review (monthly): Kai to set up; Wingens/Göttler to unify KPI reporting forma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Process Align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Align MEP / C / M model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Introduce V-Model as a referenc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(but develop „thin templates“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PLM excellence extension to whole R&amp;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48320" y="920520"/>
            <a:ext cx="403848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Organization Changes and team set 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All worked out by „global line“ mgrs and CoC leaders within next 2 weeks; INCLUDING role descriptions, names, 3rd level mgm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Principle for global line mgrs: „moderating not dictating“ with free information access/flow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Industrialization group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SysTest Asi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Process, T&amp;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System Concep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Fit4Qualcomm“ Workshop (similar to „fit4Apoxi“ today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Lead Y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Proposal together with Pascal Lefev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108000" y="165240"/>
            <a:ext cx="89596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文鼎中黑"/>
              </a:rPr>
              <a:t>Let‘s enterprise again - competition is tough, e.g. from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3948120" y="1324080"/>
            <a:ext cx="5119560" cy="4789800"/>
            <a:chOff x="3948120" y="1324080"/>
            <a:chExt cx="5119560" cy="4789800"/>
          </a:xfrm>
        </p:grpSpPr>
        <p:graphicFrame>
          <p:nvGraphicFramePr>
            <p:cNvPr id="1039" name=""/>
            <p:cNvGraphicFramePr/>
            <p:nvPr/>
          </p:nvGraphicFramePr>
          <p:xfrm>
            <a:off x="3984480" y="1324080"/>
            <a:ext cx="5083200" cy="4352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84480" y="1324080"/>
                      <a:ext cx="5083200" cy="435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1" name=""/>
            <p:cNvSpPr/>
            <p:nvPr/>
          </p:nvSpPr>
          <p:spPr>
            <a:xfrm>
              <a:off x="3948120" y="5715000"/>
              <a:ext cx="444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Finland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             U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243000" y="1057320"/>
            <a:ext cx="6761880" cy="5560920"/>
            <a:chOff x="243000" y="1057320"/>
            <a:chExt cx="6761880" cy="5560920"/>
          </a:xfrm>
        </p:grpSpPr>
        <p:sp>
          <p:nvSpPr>
            <p:cNvPr id="1043" name=""/>
            <p:cNvSpPr/>
            <p:nvPr/>
          </p:nvSpPr>
          <p:spPr>
            <a:xfrm>
              <a:off x="6004440" y="5705640"/>
              <a:ext cx="100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Ben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4" name=""/>
            <p:cNvGrpSpPr/>
            <p:nvPr/>
          </p:nvGrpSpPr>
          <p:grpSpPr>
            <a:xfrm>
              <a:off x="243000" y="1057320"/>
              <a:ext cx="3456000" cy="5560920"/>
              <a:chOff x="243000" y="1057320"/>
              <a:chExt cx="3456000" cy="5560920"/>
            </a:xfrm>
          </p:grpSpPr>
          <p:sp>
            <p:nvSpPr>
              <p:cNvPr id="1045" name=""/>
              <p:cNvSpPr txBox="1"/>
              <p:nvPr/>
            </p:nvSpPr>
            <p:spPr>
              <a:xfrm>
                <a:off x="368280" y="1057320"/>
                <a:ext cx="3330720" cy="556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320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Impact"/>
                  </a:rPr>
                  <a:t>BenQ</a:t>
                </a:r>
                <a:endPara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Impact"/>
                  </a:rPr>
                  <a:t>soldiers</a:t>
                </a:r>
                <a:endPara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Impact"/>
                  </a:rPr>
                  <a:t>never</a:t>
                </a:r>
                <a:endPara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Impact"/>
                  </a:rPr>
                  <a:t>sleep !</a:t>
                </a:r>
                <a:endPara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046" name=""/>
              <p:cNvSpPr txBox="1"/>
              <p:nvPr/>
            </p:nvSpPr>
            <p:spPr>
              <a:xfrm>
                <a:off x="243000" y="1289160"/>
                <a:ext cx="1471680" cy="838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BUT:</a:t>
                </a:r>
                <a:endPara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  <p:pic>
        <p:nvPicPr>
          <p:cNvPr id="1047" name="" descr=""/>
          <p:cNvPicPr/>
          <p:nvPr/>
        </p:nvPicPr>
        <p:blipFill>
          <a:blip r:embed="rId4"/>
          <a:stretch/>
        </p:blipFill>
        <p:spPr>
          <a:xfrm>
            <a:off x="216000" y="611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3178" fill="hold"/>
                                        <p:tgtEl>
                                          <p:spTgt spid="10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Q&amp;A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1"/>
          <a:stretch/>
        </p:blipFill>
        <p:spPr>
          <a:xfrm>
            <a:off x="2058840" y="425520"/>
            <a:ext cx="5053320" cy="597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02D-70B8-4353-9614-265EAA2D6C69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Feedback from All-Hands-Meeting, 27-Jan-06 (Total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1006560"/>
            <a:ext cx="8642160" cy="4006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0720" y="4941720"/>
            <a:ext cx="92404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about 28% responses on feedback question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WRO and AAL the most positive sites; almost 80% feedback quote from A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information was too much (deliberately for this first meeting; will be reduc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presentation layout needs impr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Audio &amp; Video needs big impr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BF2E-A62D-48AF-87CD-F22654B61E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Feedback from All-Hands-Meeting, 27-Jan-06 (Total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1125360"/>
            <a:ext cx="80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60360" y="1598760"/>
            <a:ext cx="8820000" cy="353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C77D-3B5F-4DEB-9001-FC757D9940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Arial Unicode MS"/>
              </a:rPr>
              <a:t>BenQ Highligh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D5A-9634-4212-BCEA-9CBCCC1110B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8920" y="47160"/>
            <a:ext cx="77821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aunching BenQ-Siemens with a 3-event strategy targeting diverse key audienc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6" name=""/>
          <p:cNvSpPr/>
          <p:nvPr/>
        </p:nvSpPr>
        <p:spPr>
          <a:xfrm>
            <a:off x="190440" y="1473120"/>
            <a:ext cx="8788320" cy="3949920"/>
          </a:xfrm>
          <a:custGeom>
            <a:avLst/>
            <a:gdLst/>
            <a:ahLst/>
            <a:rect l="l" t="t" r="r" b="b"/>
            <a:pathLst>
              <a:path w="5506" h="2627">
                <a:moveTo>
                  <a:pt x="0" y="1988"/>
                </a:moveTo>
                <a:cubicBezTo>
                  <a:pt x="56" y="1877"/>
                  <a:pt x="99" y="1319"/>
                  <a:pt x="341" y="1319"/>
                </a:cubicBezTo>
                <a:cubicBezTo>
                  <a:pt x="583" y="1319"/>
                  <a:pt x="879" y="2626"/>
                  <a:pt x="1214" y="2626"/>
                </a:cubicBezTo>
                <a:cubicBezTo>
                  <a:pt x="1549" y="2626"/>
                  <a:pt x="1778" y="966"/>
                  <a:pt x="2088" y="966"/>
                </a:cubicBezTo>
                <a:cubicBezTo>
                  <a:pt x="2398" y="966"/>
                  <a:pt x="2651" y="2627"/>
                  <a:pt x="2961" y="2626"/>
                </a:cubicBezTo>
                <a:cubicBezTo>
                  <a:pt x="3271" y="2625"/>
                  <a:pt x="3490" y="607"/>
                  <a:pt x="3840" y="606"/>
                </a:cubicBezTo>
                <a:cubicBezTo>
                  <a:pt x="4190" y="605"/>
                  <a:pt x="4385" y="2626"/>
                  <a:pt x="4707" y="2626"/>
                </a:cubicBezTo>
                <a:cubicBezTo>
                  <a:pt x="5029" y="2626"/>
                  <a:pt x="5340" y="547"/>
                  <a:pt x="5506" y="0"/>
                </a:cubicBezTo>
              </a:path>
            </a:pathLst>
          </a:custGeom>
          <a:noFill/>
          <a:ln w="38160">
            <a:solidFill>
              <a:srgbClr val="b09f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0200" y="2244600"/>
            <a:ext cx="7080120" cy="0"/>
          </a:xfrm>
          <a:prstGeom prst="line">
            <a:avLst/>
          </a:prstGeom>
          <a:ln w="28440">
            <a:solidFill>
              <a:srgbClr val="8076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481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91720" y="264492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89864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51680" y="264492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060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45800" y="264492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" y="3171960"/>
            <a:ext cx="9936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8000" y="5008680"/>
            <a:ext cx="822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481800" y="1192320"/>
            <a:ext cx="2205000" cy="4365360"/>
            <a:chOff x="6481800" y="1192320"/>
            <a:chExt cx="2205000" cy="4365360"/>
          </a:xfrm>
        </p:grpSpPr>
        <p:sp>
          <p:nvSpPr>
            <p:cNvPr id="237" name=""/>
            <p:cNvSpPr/>
            <p:nvPr/>
          </p:nvSpPr>
          <p:spPr>
            <a:xfrm>
              <a:off x="6481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7365960" y="2333520"/>
              <a:ext cx="595440" cy="522360"/>
            </a:xfrm>
            <a:prstGeom prst="rect">
              <a:avLst/>
            </a:prstGeom>
            <a:ln w="9360">
              <a:solidFill>
                <a:srgbClr val="5f5f5f"/>
              </a:solidFill>
              <a:miter/>
            </a:ln>
          </p:spPr>
        </p:pic>
        <p:sp>
          <p:nvSpPr>
            <p:cNvPr id="239" name=""/>
            <p:cNvSpPr/>
            <p:nvPr/>
          </p:nvSpPr>
          <p:spPr>
            <a:xfrm>
              <a:off x="6481800" y="3171960"/>
              <a:ext cx="220500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eBIT 2006 Han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launch of "Exploration"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0800000">
              <a:off x="65516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81800" y="5008680"/>
              <a:ext cx="2184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and general 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6481800" y="1192320"/>
              <a:ext cx="220500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"/>
          <p:cNvGrpSpPr/>
          <p:nvPr/>
        </p:nvGrpSpPr>
        <p:grpSpPr>
          <a:xfrm>
            <a:off x="1798560" y="1197000"/>
            <a:ext cx="2227320" cy="5183640"/>
            <a:chOff x="1798560" y="1197000"/>
            <a:chExt cx="2227320" cy="5183640"/>
          </a:xfrm>
        </p:grpSpPr>
        <p:sp>
          <p:nvSpPr>
            <p:cNvPr id="244" name=""/>
            <p:cNvSpPr/>
            <p:nvPr/>
          </p:nvSpPr>
          <p:spPr>
            <a:xfrm>
              <a:off x="1889280" y="1197000"/>
              <a:ext cx="195552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22320" y="3171960"/>
              <a:ext cx="22035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1889280" y="1197000"/>
              <a:ext cx="195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 rot="10800000">
              <a:off x="179856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2320" y="5008680"/>
              <a:ext cx="20894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op tier news, business and </a:t>
              </a:r>
              <a:br>
                <a:rPr sz="1800"/>
              </a:b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dustry medi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ailored analyst brief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540160" y="2268360"/>
              <a:ext cx="765000" cy="854280"/>
              <a:chOff x="2540160" y="2268360"/>
              <a:chExt cx="765000" cy="854280"/>
            </a:xfrm>
          </p:grpSpPr>
          <p:pic>
            <p:nvPicPr>
              <p:cNvPr id="2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40160" y="2268360"/>
                <a:ext cx="765000" cy="76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565360" y="2392200"/>
                <a:ext cx="73656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  <a:ea typeface="文鼎中黑"/>
                  </a:rPr>
                  <a:t>BenQ-Siem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4060800" y="1197000"/>
            <a:ext cx="2205000" cy="5457960"/>
            <a:chOff x="4060800" y="1197000"/>
            <a:chExt cx="2205000" cy="5457960"/>
          </a:xfrm>
        </p:grpSpPr>
        <p:sp>
          <p:nvSpPr>
            <p:cNvPr id="253" name=""/>
            <p:cNvSpPr/>
            <p:nvPr/>
          </p:nvSpPr>
          <p:spPr>
            <a:xfrm>
              <a:off x="4060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5"/>
            <a:stretch/>
          </p:blipFill>
          <p:spPr>
            <a:xfrm>
              <a:off x="4060800" y="1197000"/>
              <a:ext cx="22050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4060800" y="3171960"/>
              <a:ext cx="220500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SM Barcel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irst detailed hands-on exposure of BenQ-Siemens to larger B2B and press aud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0800000">
              <a:off x="41180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60800" y="5008680"/>
              <a:ext cx="21844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ocus on technology and trade pr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uilding on momentum from 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6"/>
            <a:stretch/>
          </p:blipFill>
          <p:spPr>
            <a:xfrm>
              <a:off x="4572000" y="2414520"/>
              <a:ext cx="119052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644480" y="1039680"/>
            <a:ext cx="1684440" cy="1393920"/>
            <a:chOff x="1644480" y="1039680"/>
            <a:chExt cx="1684440" cy="1393920"/>
          </a:xfrm>
        </p:grpSpPr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1805040" y="1039680"/>
              <a:ext cx="139068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644480" y="1369800"/>
              <a:ext cx="1684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nQ-Siemens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rand la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5920" y="48960"/>
            <a:ext cx="893772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has launched several new handsets in Q1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3" name=""/>
          <p:cNvSpPr/>
          <p:nvPr/>
        </p:nvSpPr>
        <p:spPr>
          <a:xfrm>
            <a:off x="5962680" y="476280"/>
            <a:ext cx="2714760" cy="112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3560" y="1028880"/>
            <a:ext cx="809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028880" y="1036800"/>
            <a:ext cx="28548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6320" y="134316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27520" y="1036800"/>
            <a:ext cx="28260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7560" y="1343160"/>
            <a:ext cx="106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815160" y="1036800"/>
            <a:ext cx="28404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83240" y="1343160"/>
            <a:ext cx="94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426440" y="1136520"/>
            <a:ext cx="898560" cy="7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448160" y="1317600"/>
            <a:ext cx="1514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2098800" y="2729520"/>
            <a:ext cx="600120" cy="1505520"/>
            <a:chOff x="2098800" y="2729520"/>
            <a:chExt cx="600120" cy="1505520"/>
          </a:xfrm>
        </p:grpSpPr>
        <p:sp>
          <p:nvSpPr>
            <p:cNvPr id="274" name=""/>
            <p:cNvSpPr/>
            <p:nvPr/>
          </p:nvSpPr>
          <p:spPr>
            <a:xfrm>
              <a:off x="2098800" y="2729520"/>
              <a:ext cx="600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4"/>
            <a:srcRect l="0" t="1417" r="0" b="0"/>
            <a:stretch/>
          </p:blipFill>
          <p:spPr>
            <a:xfrm>
              <a:off x="2113200" y="3016440"/>
              <a:ext cx="549360" cy="121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" name=""/>
          <p:cNvGrpSpPr/>
          <p:nvPr/>
        </p:nvGrpSpPr>
        <p:grpSpPr>
          <a:xfrm>
            <a:off x="1333440" y="2718360"/>
            <a:ext cx="574560" cy="1526400"/>
            <a:chOff x="1333440" y="2718360"/>
            <a:chExt cx="574560" cy="1526400"/>
          </a:xfrm>
        </p:grpSpPr>
        <p:sp>
          <p:nvSpPr>
            <p:cNvPr id="277" name=""/>
            <p:cNvSpPr/>
            <p:nvPr/>
          </p:nvSpPr>
          <p:spPr>
            <a:xfrm>
              <a:off x="1333440" y="27183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5"/>
            <a:stretch/>
          </p:blipFill>
          <p:spPr>
            <a:xfrm>
              <a:off x="1392120" y="2995200"/>
              <a:ext cx="461160" cy="124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"/>
          <p:cNvGrpSpPr/>
          <p:nvPr/>
        </p:nvGrpSpPr>
        <p:grpSpPr>
          <a:xfrm>
            <a:off x="442800" y="2640240"/>
            <a:ext cx="708120" cy="1682280"/>
            <a:chOff x="442800" y="2640240"/>
            <a:chExt cx="708120" cy="1682280"/>
          </a:xfrm>
        </p:grpSpPr>
        <p:sp>
          <p:nvSpPr>
            <p:cNvPr id="280" name=""/>
            <p:cNvSpPr/>
            <p:nvPr/>
          </p:nvSpPr>
          <p:spPr>
            <a:xfrm>
              <a:off x="447120" y="2640240"/>
              <a:ext cx="686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6"/>
            <a:stretch/>
          </p:blipFill>
          <p:spPr>
            <a:xfrm>
              <a:off x="442800" y="2961000"/>
              <a:ext cx="708120" cy="13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3524400" y="2670480"/>
            <a:ext cx="606240" cy="1609560"/>
            <a:chOff x="3524400" y="2670480"/>
            <a:chExt cx="606240" cy="1609560"/>
          </a:xfrm>
        </p:grpSpPr>
        <p:graphicFrame>
          <p:nvGraphicFramePr>
            <p:cNvPr id="283" name=""/>
            <p:cNvGraphicFramePr/>
            <p:nvPr/>
          </p:nvGraphicFramePr>
          <p:xfrm>
            <a:off x="3524400" y="2958120"/>
            <a:ext cx="606240" cy="1321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24400" y="2958120"/>
                      <a:ext cx="606240" cy="132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3549240" y="2670480"/>
              <a:ext cx="539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454640" y="2723040"/>
            <a:ext cx="571320" cy="1517040"/>
            <a:chOff x="4454640" y="2723040"/>
            <a:chExt cx="571320" cy="1517040"/>
          </a:xfrm>
        </p:grpSpPr>
        <p:graphicFrame>
          <p:nvGraphicFramePr>
            <p:cNvPr id="287" name=""/>
            <p:cNvGraphicFramePr/>
            <p:nvPr/>
          </p:nvGraphicFramePr>
          <p:xfrm>
            <a:off x="4464720" y="3017160"/>
            <a:ext cx="526320" cy="122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64720" y="3017160"/>
                      <a:ext cx="526320" cy="12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9" name=""/>
            <p:cNvSpPr/>
            <p:nvPr/>
          </p:nvSpPr>
          <p:spPr>
            <a:xfrm>
              <a:off x="4454640" y="2723040"/>
              <a:ext cx="5713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283360" y="2554920"/>
            <a:ext cx="875880" cy="1851480"/>
            <a:chOff x="5283360" y="2554920"/>
            <a:chExt cx="875880" cy="1851480"/>
          </a:xfrm>
        </p:grpSpPr>
        <p:pic>
          <p:nvPicPr>
            <p:cNvPr id="291" name="" descr=""/>
            <p:cNvPicPr/>
            <p:nvPr/>
          </p:nvPicPr>
          <p:blipFill>
            <a:blip r:embed="rId11"/>
            <a:srcRect l="19463" t="1152" r="23739" b="1552"/>
            <a:stretch/>
          </p:blipFill>
          <p:spPr>
            <a:xfrm>
              <a:off x="5337360" y="2940840"/>
              <a:ext cx="77436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283360" y="2554920"/>
              <a:ext cx="875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453360" y="3427920"/>
            <a:ext cx="763200" cy="1497960"/>
            <a:chOff x="6453360" y="3427920"/>
            <a:chExt cx="763200" cy="1497960"/>
          </a:xfrm>
        </p:grpSpPr>
        <p:grpSp>
          <p:nvGrpSpPr>
            <p:cNvPr id="294" name=""/>
            <p:cNvGrpSpPr/>
            <p:nvPr/>
          </p:nvGrpSpPr>
          <p:grpSpPr>
            <a:xfrm>
              <a:off x="6453360" y="3738600"/>
              <a:ext cx="763200" cy="1187280"/>
              <a:chOff x="6453360" y="3738600"/>
              <a:chExt cx="763200" cy="1187280"/>
            </a:xfrm>
          </p:grpSpPr>
          <p:pic>
            <p:nvPicPr>
              <p:cNvPr id="295" name="" descr=""/>
              <p:cNvPicPr/>
              <p:nvPr/>
            </p:nvPicPr>
            <p:blipFill>
              <a:blip r:embed="rId12"/>
              <a:srcRect l="33579" t="22141" r="33261" b="22201"/>
              <a:stretch/>
            </p:blipFill>
            <p:spPr>
              <a:xfrm>
                <a:off x="6852240" y="4008960"/>
                <a:ext cx="364320" cy="64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" descr=""/>
              <p:cNvPicPr/>
              <p:nvPr/>
            </p:nvPicPr>
            <p:blipFill>
              <a:blip r:embed="rId13"/>
              <a:srcRect l="0" t="1072" r="65318" b="1072"/>
              <a:stretch/>
            </p:blipFill>
            <p:spPr>
              <a:xfrm>
                <a:off x="6453360" y="3738600"/>
                <a:ext cx="398880" cy="11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7" name=""/>
            <p:cNvSpPr/>
            <p:nvPr/>
          </p:nvSpPr>
          <p:spPr>
            <a:xfrm>
              <a:off x="6497640" y="342792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F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8350200" y="3114360"/>
            <a:ext cx="730440" cy="2086200"/>
            <a:chOff x="8350200" y="3114360"/>
            <a:chExt cx="730440" cy="2086200"/>
          </a:xfrm>
        </p:grpSpPr>
        <p:pic>
          <p:nvPicPr>
            <p:cNvPr id="299" name="" descr=""/>
            <p:cNvPicPr/>
            <p:nvPr/>
          </p:nvPicPr>
          <p:blipFill>
            <a:blip r:embed="rId14"/>
            <a:stretch/>
          </p:blipFill>
          <p:spPr>
            <a:xfrm>
              <a:off x="8350200" y="3394080"/>
              <a:ext cx="73044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8350200" y="3114360"/>
              <a:ext cx="6955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7426440" y="3461040"/>
            <a:ext cx="647640" cy="1642680"/>
            <a:chOff x="7426440" y="3461040"/>
            <a:chExt cx="647640" cy="1642680"/>
          </a:xfrm>
        </p:grpSpPr>
        <p:pic>
          <p:nvPicPr>
            <p:cNvPr id="302" name="" descr=""/>
            <p:cNvPicPr/>
            <p:nvPr/>
          </p:nvPicPr>
          <p:blipFill>
            <a:blip r:embed="rId15"/>
            <a:stretch/>
          </p:blipFill>
          <p:spPr>
            <a:xfrm>
              <a:off x="7426440" y="3749760"/>
              <a:ext cx="6476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7462800" y="3461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397560" y="1864080"/>
            <a:ext cx="603360" cy="1530000"/>
            <a:chOff x="6397560" y="1864080"/>
            <a:chExt cx="603360" cy="1530000"/>
          </a:xfrm>
        </p:grpSpPr>
        <p:pic>
          <p:nvPicPr>
            <p:cNvPr id="305" name="" descr=""/>
            <p:cNvPicPr/>
            <p:nvPr/>
          </p:nvPicPr>
          <p:blipFill>
            <a:blip r:embed="rId16"/>
            <a:stretch/>
          </p:blipFill>
          <p:spPr>
            <a:xfrm>
              <a:off x="6397560" y="2152800"/>
              <a:ext cx="6033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6426360" y="186408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87360" y="4067640"/>
            <a:ext cx="8478720" cy="2232360"/>
            <a:chOff x="387360" y="4067640"/>
            <a:chExt cx="8478720" cy="2232360"/>
          </a:xfrm>
        </p:grpSpPr>
        <p:sp>
          <p:nvSpPr>
            <p:cNvPr id="308" name=""/>
            <p:cNvSpPr/>
            <p:nvPr/>
          </p:nvSpPr>
          <p:spPr>
            <a:xfrm rot="1855200">
              <a:off x="4816440" y="4026960"/>
              <a:ext cx="255600" cy="14940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9806600">
              <a:off x="1147320" y="4268520"/>
              <a:ext cx="314280" cy="117324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60680" y="5222880"/>
              <a:ext cx="258300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7360" y="5186520"/>
              <a:ext cx="2663640" cy="95868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32600" y="5197320"/>
              <a:ext cx="258264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8760" y="5234040"/>
              <a:ext cx="26636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81: Listed at major global accounts (VF, TMO,  Telefonica, Orange, KPN) and 16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03520" y="5234040"/>
              <a:ext cx="24735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42920" indent="-1414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91: HSDPA is this year's trend – and BenQ Mobile presents one of the first HSDPA phones in the 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855200">
              <a:off x="8075520" y="4854600"/>
              <a:ext cx="255600" cy="6858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02440" y="5234040"/>
              <a:ext cx="26636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L71: Listed at major global accounts (VF, TMO,  Telefonica, TIM, Orange, KPN) and &gt; 11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8456760" y="1283040"/>
            <a:ext cx="574560" cy="1838160"/>
            <a:chOff x="8456760" y="1283040"/>
            <a:chExt cx="574560" cy="1838160"/>
          </a:xfrm>
        </p:grpSpPr>
        <p:pic>
          <p:nvPicPr>
            <p:cNvPr id="318" name="" descr=""/>
            <p:cNvPicPr/>
            <p:nvPr/>
          </p:nvPicPr>
          <p:blipFill>
            <a:blip r:embed="rId17"/>
            <a:stretch/>
          </p:blipFill>
          <p:spPr>
            <a:xfrm flipH="1">
              <a:off x="8488440" y="1600200"/>
              <a:ext cx="542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8456760" y="1283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377120" y="1787760"/>
            <a:ext cx="660240" cy="1603080"/>
            <a:chOff x="7377120" y="1787760"/>
            <a:chExt cx="660240" cy="1603080"/>
          </a:xfrm>
        </p:grpSpPr>
        <p:pic>
          <p:nvPicPr>
            <p:cNvPr id="321" name="" descr=""/>
            <p:cNvPicPr/>
            <p:nvPr/>
          </p:nvPicPr>
          <p:blipFill>
            <a:blip r:embed="rId18"/>
            <a:stretch/>
          </p:blipFill>
          <p:spPr>
            <a:xfrm>
              <a:off x="7377120" y="2066760"/>
              <a:ext cx="6602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426440" y="17877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P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2009880" y="-512280"/>
            <a:ext cx="4388760" cy="7368480"/>
            <a:chOff x="2009880" y="-512280"/>
            <a:chExt cx="4388760" cy="7368480"/>
          </a:xfrm>
        </p:grpSpPr>
        <p:pic>
          <p:nvPicPr>
            <p:cNvPr id="325" name="" descr=""/>
            <p:cNvPicPr/>
            <p:nvPr/>
          </p:nvPicPr>
          <p:blipFill>
            <a:blip r:embed="rId1"/>
            <a:stretch/>
          </p:blipFill>
          <p:spPr>
            <a:xfrm>
              <a:off x="2009880" y="282240"/>
              <a:ext cx="4388760" cy="657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2256120" y="-512280"/>
              <a:ext cx="389340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ndrea Kreilinger</cp:lastModifiedBy>
  <dcterms:modified xsi:type="dcterms:W3CDTF">2006-04-05T08:34:16Z</dcterms:modified>
  <cp:revision>401</cp:revision>
  <dc:subject/>
  <dc:title>PowerPoint 簡報</dc:title>
</cp:coreProperties>
</file>